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25A-85FF-40CB-AAB8-1A34ACFB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FC8-C1F1-454B-91CD-531014C8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3D9B4-9FB1-4742-8D66-1AFCA956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7C9B5-6165-4279-B0C0-D2BACBF1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3876B-7999-42EC-926D-974E1021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57A8C-5DC5-4D11-A309-C22E8415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88A08-9EDF-4A09-B2B5-899E2E8F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CF29E-3A4E-472C-B518-2B82FC45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80784-68A6-4308-A722-DD1AC1D1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A9FE1-390D-466A-B4F0-3BB1E293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7C34C-086B-49BC-91D9-BC224451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8A68D-5FB9-4E54-BCBE-89D14237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55A-B332-493C-BB88-2A39A87B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D01C5-39E0-454F-BE6E-EDEABF09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3F509-2BEE-42F7-877C-62CEA618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773EC-0C40-458E-A818-20B33A8B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A0183-020A-42E1-A10C-956F4E67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1EDB9-C4D5-4F8B-99A0-408844CC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16DB6-ABD9-4295-8AD2-E742D8BC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FCACA-C728-4956-B856-31DD6F16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61F04-E9F1-4BBC-A0DE-ED237B52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FF4E7-7C38-48A7-92C3-FBE0B962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C5048-3FFC-4970-B742-2F3C89BC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18F-D5B3-45BD-9C9A-F8FBDFEC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2616E-C9EB-4152-8C13-697C8253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39330-39AD-4B5D-A716-99C64286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9EADB-B136-4230-A51C-EC5D1D75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2B047-935E-4E8A-A088-01E5CA91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ED99C-8DF7-476E-9506-96DA2FCB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89BAD-C2AB-4C20-9CF6-177BB7A7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F2F1F-C6E5-4EA4-8E75-65F0A121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64F19-1220-439D-9A48-94C359DB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892A6-4057-49A5-B9D7-7A1D0B3A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F876F-D4EE-46FB-8500-C1F4927E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91F1-30E3-4987-BC87-D55ED083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544E5-72FC-469A-A72B-4130BAA1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5132D-2C1C-4797-BED1-8555C717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65B99-0C09-4BEB-998A-5DD55591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706C7-C7DB-44E1-A965-0128E062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8EF51-0607-463B-A0AA-601D4420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E3DC0-764B-4542-87C1-DF165551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ED0BB-812C-407F-9498-F91AC9E0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28950-3D99-4358-9AF5-CAB9AFF3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37FFB-409C-4494-8991-3769CD4A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7A259-06D3-4F12-9A0E-D6308B88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384B-95B5-456F-BD9F-A966678A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B8598-735A-4BF8-9D05-0CB78243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A520B-C787-45FE-AC37-385D6733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A3344-F704-4773-AA1E-A9981EBC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86AB7-0427-471A-AA4D-946EC836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878C3-0C24-48EC-8E9B-4705CB50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A114-7AB8-4DDC-8241-DCA6768A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2F8E-FD43-436D-9D9E-FBA154C6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1889-7BF1-4B2C-B552-A7A31D80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0748-ED17-4C3F-8862-D5C0BEF4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C153-51A0-45FE-B40E-6D0B76D9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5CB-B6F0-4FF1-9281-6C482477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3C5C-B326-42BE-86A4-8891D40E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CCAD-07BE-4B07-B356-FF406495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A7AA-1DD3-4EFC-8CA1-8199167C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C8CD-0388-466A-A8BB-9EC6EE65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2394-0F2F-41E0-AAAD-3C6D0C95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D572-4D5A-4D4D-898F-C6857AF6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7B335-65E1-40BE-92B4-1012014C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AA91B-A178-43EC-8E0D-807FE7CA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95FA7-B5DF-4897-AEA6-95FE9B06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38EC-96CC-4E11-9662-E5612D69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340-B0CF-493E-8498-A5B6B552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5109E-49DF-4A4F-AA18-6DF6243B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C5805-707E-467B-80A3-5FF0D84C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1200F-A6A6-40A4-BA6F-4E9016A0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582B-977B-494F-A978-B13D8CB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CD9DD-FD23-4344-8E9F-3D7248FC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C3F4B-ACDF-4B59-A5AB-88941D11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19B01-3E37-4FF4-AFB9-1ED896E2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A18AC-A013-42F3-B4CD-40426245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69A84-27DD-4284-8CF6-C4956115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331B9-AED8-4CE4-8B4F-7A5B3DFB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A0A-464B-4856-A30B-3AFFF344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3FD48-2D23-46F4-B830-1002BF76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3A74-4674-40FB-B80C-2B0E861C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647B8-E6F9-416A-9892-C453D4FA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CA027-C9E4-47BF-B651-1200CD8E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45ED4-44A1-4529-9A75-43F70219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27007-56C8-47A9-A729-EDA9AF43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E472E-55F4-4978-90D6-4A0DECB9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78CC4-E9AC-427C-A8C2-B01BE1AC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D3F21-3AA1-4EBC-9F3A-D626FD69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7292C-6E17-4897-92FC-B447058C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08A-86E7-4B55-9374-4E728EA4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D3C47-CF9A-430C-A2AE-C339AA1C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D4C7E-DE59-41E2-8BAB-740A7F1C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E0640-A913-4805-8BD7-502BD57B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3A28C-A090-4CFA-B2EF-0880FD30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3AEA6-B87D-4E7A-B5DD-925488F8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40517-8659-4ABF-9ACB-6E4CA469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3B159-2A5D-426A-AF70-284EBA2C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9DEE3-3AAE-40B0-8419-AF0709B7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F4B4F-8D19-45EC-8DBD-FFC4E3E1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CC3DB-A085-452C-8539-80C0E36E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E31-948A-4B34-BF2F-C488D5E2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7F9E7-C40B-44BD-B11F-19A9FF05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3CAC1-9A33-4E39-BD19-9C72B3D5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4ECC5-72A6-4634-97E0-25EDAA7A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3BA41-29FB-46C2-A7DD-8FBDAE84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B259D-5F57-4101-A390-567E4CE1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CB559-340D-4634-B383-A3C8F4C8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DEE06-19C1-439E-8CE5-6C9C3C34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FF4A2-B960-4BEA-A739-688CB2A6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5D3AC-99EC-469E-9C80-3BCD6104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3A905-CA26-4C84-BFC0-C35B2F89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FF8-956D-419B-AA45-17EC96B3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046F8-EE8A-48BA-A8E9-69939702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08389-8B51-495E-8DC0-166CA255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2BDAE-4761-4052-B990-9D13B129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5EDFB-8D19-46FD-81E2-C48E5594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73E0B-F835-4836-854E-87E87CA2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EF262-7B35-4EAB-8B3C-22095D71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2F1DD-555D-480C-90EE-74F0328C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08B08-6A23-4A42-88D2-B9F7A201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6BCE6-E71F-4FAA-8AA9-83B22230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45D6C-1D45-444E-8578-352F89B7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D63-C7D9-4E92-96DC-BEFE35C9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6515C-9774-4D64-AB3B-8823E8FF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1A836-537A-404B-972A-A68FF227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4BF0D-6A0D-494B-8C9B-F4B4D628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79692-E941-4488-851F-9F8F36F7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7AA60-217E-49B1-B7FF-367AC8B8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82FD8-6570-4E04-A0F2-9446330C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08063-7D26-4BA9-BEA5-91528CBC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A432E-F712-44D1-BF87-B66A901A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DB58E-0679-475E-88D8-3B3AC6C9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F6BE7-BD96-4500-8E49-916320AA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4C2-6D51-4A29-B505-59B82405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518B9-D98E-4AC6-818B-366E40AE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297F3-3F61-4DB3-86C7-5AE2CAE1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63F05-B1D4-46C6-9254-2C9A0188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20C97-C4AF-4C19-A7A3-48AD876F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46FE9-3B20-4495-B734-D45D40CF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92532-213A-4353-9EC7-FA6D6670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A7E24-E653-4572-92BF-C565ED49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A8BC5-EE2A-4DC0-AA52-A634D775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A2D08-7933-4DCB-B771-C7EC2416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BFF03-C7CC-4163-B009-4B86B9B1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663B-12F3-49B0-9322-F035BEB42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DC5F-4F50-4534-9516-E132A5C9A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5DFB-CC02-4699-96EF-F219E3F8B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E067-6723-4DB4-92C4-EE3DBE1C9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5580-E6C5-4A52-BB6F-EE1E85007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FF4B-3FD0-438D-BDF0-7DADAD14A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A64B-36EB-4BF8-8D18-82AD0BD84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ABD1-FDD3-4789-A5DA-FB2882545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DCB7-FF72-474F-81A7-D12820DA3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D377-AFF1-4E75-9173-8A9651C7C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D382-A2AE-4FA5-81C3-3CD499FD6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B9A7-8DF7-47D3-A1A4-06114701C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Eastern States and Capital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st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le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es from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sac of toys fo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Freeform 7"/>
          <p:cNvSpPr/>
          <p:nvPr/>
        </p:nvSpPr>
        <p:spPr>
          <a:xfrm rot="20349000">
            <a:off x="5343480" y="3259080"/>
            <a:ext cx="884160" cy="466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617220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orth Carolina, Raleig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chig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 Mitten grabbing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Freeform 7"/>
          <p:cNvSpPr/>
          <p:nvPr/>
        </p:nvSpPr>
        <p:spPr>
          <a:xfrm>
            <a:off x="4572000" y="2057400"/>
            <a:ext cx="8082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324480" y="40384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ichigan, Lan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6248520" y="2666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Freeform 9"/>
          <p:cNvSpPr/>
          <p:nvPr/>
        </p:nvSpPr>
        <p:spPr>
          <a:xfrm>
            <a:off x="4800600" y="2666880"/>
            <a:ext cx="4572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6400800" y="289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lue Giv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6248520" y="4038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ndiana, India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“O Hi O” to Columbus’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Freeform 9"/>
          <p:cNvSpPr/>
          <p:nvPr/>
        </p:nvSpPr>
        <p:spPr>
          <a:xfrm>
            <a:off x="5105520" y="2590920"/>
            <a:ext cx="533160" cy="609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6400800" y="3657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Ohio, Columb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5"/>
          <p:cNvSpPr/>
          <p:nvPr/>
        </p:nvSpPr>
        <p:spPr>
          <a:xfrm>
            <a:off x="624852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ida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il is Sass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Freeform 7"/>
          <p:cNvSpPr/>
          <p:nvPr/>
        </p:nvSpPr>
        <p:spPr>
          <a:xfrm rot="19281600">
            <a:off x="5279760" y="3949200"/>
            <a:ext cx="685800" cy="11858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6400800" y="2590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Florida, Tallahass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45" name="Freeform 7"/>
          <p:cNvSpPr/>
          <p:nvPr/>
        </p:nvSpPr>
        <p:spPr>
          <a:xfrm>
            <a:off x="4203720" y="2162160"/>
            <a:ext cx="774720" cy="628560"/>
          </a:xfrm>
          <a:custGeom>
            <a:avLst/>
            <a:gdLst/>
            <a:ahLst/>
            <a:rect l="l" t="t" r="r" b="b"/>
            <a:pathLst>
              <a:path w="488" h="396">
                <a:moveTo>
                  <a:pt x="461" y="311"/>
                </a:moveTo>
                <a:cubicBezTo>
                  <a:pt x="449" y="266"/>
                  <a:pt x="438" y="235"/>
                  <a:pt x="406" y="201"/>
                </a:cubicBezTo>
                <a:cubicBezTo>
                  <a:pt x="388" y="148"/>
                  <a:pt x="392" y="84"/>
                  <a:pt x="333" y="64"/>
                </a:cubicBezTo>
                <a:cubicBezTo>
                  <a:pt x="293" y="26"/>
                  <a:pt x="230" y="19"/>
                  <a:pt x="177" y="9"/>
                </a:cubicBezTo>
                <a:cubicBezTo>
                  <a:pt x="137" y="13"/>
                  <a:pt x="87" y="0"/>
                  <a:pt x="58" y="28"/>
                </a:cubicBezTo>
                <a:cubicBezTo>
                  <a:pt x="43" y="42"/>
                  <a:pt x="42" y="66"/>
                  <a:pt x="31" y="83"/>
                </a:cubicBezTo>
                <a:cubicBezTo>
                  <a:pt x="35" y="165"/>
                  <a:pt x="0" y="265"/>
                  <a:pt x="86" y="293"/>
                </a:cubicBezTo>
                <a:cubicBezTo>
                  <a:pt x="106" y="375"/>
                  <a:pt x="96" y="342"/>
                  <a:pt x="113" y="393"/>
                </a:cubicBezTo>
                <a:cubicBezTo>
                  <a:pt x="235" y="390"/>
                  <a:pt x="358" y="396"/>
                  <a:pt x="479" y="384"/>
                </a:cubicBezTo>
                <a:cubicBezTo>
                  <a:pt x="488" y="383"/>
                  <a:pt x="488" y="231"/>
                  <a:pt x="461" y="311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629400" y="19051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MIMAL get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easi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6246720" y="385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isconsin, Mad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e Simpson upside down yelling about al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ring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4495680" y="2666880"/>
            <a:ext cx="511200" cy="8366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6324480" y="42670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llinois, Springfiel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6248520" y="2666880"/>
            <a:ext cx="2514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 is best eaten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nk’s F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eat h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Freeform 7"/>
          <p:cNvSpPr/>
          <p:nvPr/>
        </p:nvSpPr>
        <p:spPr>
          <a:xfrm rot="20632800">
            <a:off x="4734000" y="3119400"/>
            <a:ext cx="826920" cy="457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858000" y="4724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Kentucky, Frankf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5"/>
          <p:cNvSpPr/>
          <p:nvPr/>
        </p:nvSpPr>
        <p:spPr>
          <a:xfrm>
            <a:off x="6248520" y="266688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pla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n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shvil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n C’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Freeform 7"/>
          <p:cNvSpPr/>
          <p:nvPr/>
        </p:nvSpPr>
        <p:spPr>
          <a:xfrm rot="20781600">
            <a:off x="4648320" y="3352320"/>
            <a:ext cx="990360" cy="4557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6934320" y="5181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Tennessee, Nashvi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ack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ses his Sip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4572000" y="3657600"/>
            <a:ext cx="533520" cy="9129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248520" y="4191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ississippi, Jack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6248520" y="3505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unt Gum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Alab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7"/>
          <p:cNvSpPr/>
          <p:nvPr/>
        </p:nvSpPr>
        <p:spPr>
          <a:xfrm>
            <a:off x="4876920" y="3657600"/>
            <a:ext cx="53316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6705720" y="2286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Alabama, Montgom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 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see her diamo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reeform 7"/>
          <p:cNvSpPr/>
          <p:nvPr/>
        </p:nvSpPr>
        <p:spPr>
          <a:xfrm>
            <a:off x="5257800" y="3581280"/>
            <a:ext cx="53352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6400800" y="3962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Georgia, Atlan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au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ways wears he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lumb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carrot’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7"/>
          <p:cNvSpPr/>
          <p:nvPr/>
        </p:nvSpPr>
        <p:spPr>
          <a:xfrm rot="20458200">
            <a:off x="5410080" y="3429000"/>
            <a:ext cx="601920" cy="609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6248520" y="41148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South Carolina, Columb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dcterms:modified xsi:type="dcterms:W3CDTF">2016-10-07T15:58:43Z</dcterms:modified>
  <cp:revision>39</cp:revision>
  <dc:subject/>
  <dc:title>United States</dc:title>
</cp:coreProperties>
</file>