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C1C-3F84-4697-ADD6-DB39FCF0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E87-0135-459F-9F21-5E94EE50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CB79B-A5C8-4135-A02A-A7684E3A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12F37-9E37-400F-8A4E-3B0E63DC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CBF57-AA25-4F72-A1F1-9CC9373C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9A6D9-C727-421A-BFF5-27BCF7B3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CADFB-A233-41B2-A80C-EE8140CD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FACC9-E5B9-416C-9372-3FEB87D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0F8FC-ABA4-41AD-BAE7-E5DD0252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3BA42-441B-41EC-876C-4F7D2B2B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AD81B-6E73-49E7-8C8D-B3131A2D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EB6CA-72A8-46BF-B5AE-86EB9E43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FE6-D5DC-49DD-88BD-FB7056DB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948D7-FDFA-4426-92E3-F2A8F23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41318-CC77-4152-B47B-4CA27B5D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F77D2-4BA6-4C4D-A1F9-4BE0BBE7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66022-EA8B-4C5B-AA7A-FCFE19CC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18186-AB10-4145-8F31-91A6A6F6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7FC1C-66CD-425B-9476-83009866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8CAEB-C097-41C0-9030-70D4F742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0FC44-CE54-4F01-AABC-637D0304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38AAA-1756-4776-AEB7-D6903D2A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4902A-B75E-4A2D-8582-DBF40A0C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FA6-462F-473E-B4FB-6AEA520B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78F56-AD14-4B32-956F-E3DE8ED4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93867-7D06-4D9A-A847-967DA3A1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1D924-FEFB-484C-B550-891A6B56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874AE-5F1F-4F3D-9C1C-B5F2D4AE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5D7D0-8EA9-458C-946C-ED182645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1A8BE-B2EC-4E70-AA45-753FE3FA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4B7D5-1432-4C7C-A825-1A44596C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25855-C3DA-4122-9C35-712D5B7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B5DFD-F3EE-4622-92B1-5514BDFA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1E103-7FBD-4CE1-A994-E6B435C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4E0A-A5A5-4E2A-A770-DF2CDB64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0D0B7-4B39-4679-97BB-51CEEF76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348DB-CB78-47E7-8367-2A9D4E3C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F7C15-1020-49B2-B245-C18B1F38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1E2A6-69EC-46F0-895F-5837A6F2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DDA88-308C-4FBD-8002-D3AA0285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4A0F3-F4E3-42BE-8073-FFFFFCB3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C936F-CA3F-4690-8F0F-2C4BAEEF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DCCED-DEAA-41B9-8FCF-02D10A4B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98BD9-CE2D-40B1-87BF-068BA931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8156C-E6E8-4A53-85CD-1C86ECA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1235-EDC7-4283-BCA5-00822938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2D8CB-A3D1-4A28-9641-D1BAF2E3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9B7E8-251D-4A36-A09F-89EB0B3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9533A-74CF-4D3D-ABBF-60D6ED3D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00F3A-E1D4-4D89-A8C8-8B4A9329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F9B42-29B7-4C09-ADD2-F9E47623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D01E-B75E-4011-AF92-0EB13708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83E0-F264-4606-99BA-905E44BA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3ED8-B6B3-49FD-A799-8E7FE85E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EB24-7BB0-47D5-88D7-6331BE9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EDE6-7552-4A63-8275-FBAC51C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FBD-7757-4240-8CDF-54CC724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EE88-387F-4908-A36E-D094E42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2145-DB00-465B-B43A-FE420E21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1EA9-E4FF-4383-9050-C69FB2C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839A-87F3-453D-BEB9-D6F4795C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B227-772C-46D8-AF0C-935FEFDC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AACBB-6B34-42AA-8A84-44505D55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E489-2F75-4883-BE96-DC40EE0E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10D2-339E-424C-9896-F6E2A5CD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05A4-4E26-4EA7-BECC-3027BD7C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F924-7912-4404-8E2C-902B5C68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D7C-E511-4FF9-A547-3644A9C8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DAFF3-31CA-4B0F-A859-E3E6F284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6CED-212B-427D-B754-36171151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15E7-0E04-41F1-B5C4-4B6587B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F8B8-05D0-464F-8CC2-2A927649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F9E06-698C-44FE-937F-5DD9B526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5DFB-70AC-47E1-9157-B18CDDED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AA756-F3BF-4747-84AE-CFBCC0B7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7E9F6-53B4-486B-9D15-5FAD0215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589C-B263-4765-AC1E-5C78A1A4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298DF-04A1-4C47-AA80-53966969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770-2778-48A5-9659-64C9ABB8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9295-9378-4B9F-9E7B-7C6EFF07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C802-1571-4E2C-AB0D-CDAC2ADA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E873-6EA5-4C9F-9394-54CAB748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E9183-55F6-4C91-BBD2-F6C333F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BE01-5699-4310-B15F-43A7ABE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B46F-5BDA-4EF7-91D3-F116379A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BBFE2-ACEE-47BC-90C3-888BCA7C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7735-4CB1-44AF-B07E-35AC2D17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B923-8B0F-46B6-9EE8-F9A3780F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58437-F79D-421E-903E-1D0D7A08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C64-790E-43C3-A629-8A7C2BF3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5648-97B4-4B2C-8249-7F8BBBC0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914DC-C122-4F45-951E-50501A9F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59AD4-0D7B-49F2-ABF0-4AB3525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85F5-6393-4109-B993-950FE51B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64D8E-E419-4891-BF7E-1FD2D740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DAF37-BC96-4928-BC29-07B140A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68B6C-5AC6-409A-85A8-3D4D98A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3E81-C77E-461C-86C8-C1917232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EBD2-218B-4015-A4F5-846DDCBA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76F2-1FC9-4CD4-9CC6-40797871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0AC-F228-42E5-9781-E9DB818D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D92A-634B-4DDC-BDC1-1D174785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C7D12-0AE4-48E6-B1C3-1A791D92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1F0E-E698-4596-8FF8-16A92AFE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5F09-BE08-4435-8B50-19A705A3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42F0-FC46-4878-8482-86A28DAA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5F45A-C8BD-4F1D-9662-C5D71A10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CDB8-6631-47B3-A949-4C0D9D18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4E92A-9308-400F-8131-D8994FEC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66467-5520-4A0E-8C31-A9E7D444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C70EC-76B3-49FB-AC17-83387C6C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786-C77D-4E66-A5E5-FEC0BD0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F02B7-5D37-45CD-B303-AFAAF936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F5D81-90EF-417B-9D20-58F6B3D8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444AC-3C82-4176-B44E-28636C97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99FD1-7120-42AC-8E7B-3FDDCA9C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B7F28-586D-4292-AC2E-45142C74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EC3BF-E855-483A-B63F-7669E7ED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902FA-9FD6-4DC2-B448-26368DA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A99B-70B0-49ED-81C6-9C3AF314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3FAF4-796D-4081-B2B7-DB7CD4B5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56A9E-46EF-4A96-8E26-D57E2903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199-E112-411E-B52A-F591783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DB5C-C783-4111-820E-BAFC4E8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2B4BB-AA54-46E2-9932-F4FCCA1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B76C-95E8-4C70-AB98-9C9FE1B3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7F6D-A4C5-46FF-9A8F-9A4C1BDA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AFFA-7323-451E-A52D-9EA9A6DB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300D-8A6E-4655-8AD2-FED0FE4C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7F2B1-B28C-41EB-92B1-ED5A2CA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37F67-AAB3-482D-B2B7-E4DE8B69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6B6AA-70FA-418F-9AFA-C780F63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87680-4148-4116-BFD1-20FE9896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174-151D-48FE-814D-03435A07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78327-BE84-40E7-9280-DD616AD0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8687A-63CF-49B4-AEC5-90210CAA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BDA0-5568-4798-AAFB-91578D0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423C5-E9DD-4E41-BFF2-61BE1D1A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6F01F-944F-4A36-91D3-A319A29C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DF676-2A95-46F0-8BC1-28A99A54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9D893-51D2-40AA-B918-F5DDB598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A0194-F925-4BAB-BC19-54129B6A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8A500-1E1C-4EF9-9EBA-5DDC6623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996DA-F7A1-495D-A96C-9A234D87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16A6-AF49-4FB4-8D4E-82FA8D81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A7D6-783E-439A-BE4A-85F27755D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256E-2284-4EA7-B1C0-4CB09C2B2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76F6-3BD9-4348-BDC1-B3B468ABD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119-C76F-406C-B30F-8AC807E4D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262B-C63C-41EE-86F3-EE5E0186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CDC9-F51A-4E3F-9BC5-BE82D6200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657C-B195-4DA8-8FE9-F5B0D6C17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DF57-A433-40D1-A892-C774ECD3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7259-1244-4993-B6C8-86BC2C335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725C-2FFC-4841-958E-2AFBF2180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F39F-0B0F-4D50-8229-6774D4E4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Eastern States and Capit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e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es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sac of toys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reeform 7"/>
          <p:cNvSpPr/>
          <p:nvPr/>
        </p:nvSpPr>
        <p:spPr>
          <a:xfrm rot="20349000">
            <a:off x="5343480" y="3259080"/>
            <a:ext cx="88416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orth Carolina, Ralei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Mitten grabb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Freeform 7"/>
          <p:cNvSpPr/>
          <p:nvPr/>
        </p:nvSpPr>
        <p:spPr>
          <a:xfrm>
            <a:off x="4572000" y="2057400"/>
            <a:ext cx="808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24480" y="4038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chigan, Lan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4800600" y="2666880"/>
            <a:ext cx="457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64008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G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624852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ndiana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“O Hi O” to Columbus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Freeform 9"/>
          <p:cNvSpPr/>
          <p:nvPr/>
        </p:nvSpPr>
        <p:spPr>
          <a:xfrm>
            <a:off x="5105520" y="2590920"/>
            <a:ext cx="53316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6400800" y="3657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Ohio, Colum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2485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il is Sas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Freeform 7"/>
          <p:cNvSpPr/>
          <p:nvPr/>
        </p:nvSpPr>
        <p:spPr>
          <a:xfrm rot="19281600">
            <a:off x="5279760" y="3949200"/>
            <a:ext cx="685800" cy="11858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400800" y="2590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lorida, Tallahas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Freeform 7"/>
          <p:cNvSpPr/>
          <p:nvPr/>
        </p:nvSpPr>
        <p:spPr>
          <a:xfrm>
            <a:off x="4203720" y="2162160"/>
            <a:ext cx="774720" cy="628560"/>
          </a:xfrm>
          <a:custGeom>
            <a:avLst/>
            <a:gdLst/>
            <a:ahLst/>
            <a:rect l="l" t="t" r="r" b="b"/>
            <a:pathLst>
              <a:path w="488" h="396">
                <a:moveTo>
                  <a:pt x="461" y="311"/>
                </a:moveTo>
                <a:cubicBezTo>
                  <a:pt x="449" y="266"/>
                  <a:pt x="438" y="235"/>
                  <a:pt x="406" y="201"/>
                </a:cubicBezTo>
                <a:cubicBezTo>
                  <a:pt x="388" y="148"/>
                  <a:pt x="392" y="84"/>
                  <a:pt x="333" y="64"/>
                </a:cubicBezTo>
                <a:cubicBezTo>
                  <a:pt x="293" y="26"/>
                  <a:pt x="230" y="19"/>
                  <a:pt x="177" y="9"/>
                </a:cubicBezTo>
                <a:cubicBezTo>
                  <a:pt x="137" y="13"/>
                  <a:pt x="87" y="0"/>
                  <a:pt x="58" y="28"/>
                </a:cubicBezTo>
                <a:cubicBezTo>
                  <a:pt x="43" y="42"/>
                  <a:pt x="42" y="66"/>
                  <a:pt x="31" y="83"/>
                </a:cubicBezTo>
                <a:cubicBezTo>
                  <a:pt x="35" y="165"/>
                  <a:pt x="0" y="265"/>
                  <a:pt x="86" y="293"/>
                </a:cubicBezTo>
                <a:cubicBezTo>
                  <a:pt x="106" y="375"/>
                  <a:pt x="96" y="342"/>
                  <a:pt x="113" y="393"/>
                </a:cubicBezTo>
                <a:cubicBezTo>
                  <a:pt x="235" y="390"/>
                  <a:pt x="358" y="396"/>
                  <a:pt x="479" y="384"/>
                </a:cubicBezTo>
                <a:cubicBezTo>
                  <a:pt x="488" y="383"/>
                  <a:pt x="488" y="231"/>
                  <a:pt x="461" y="311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29400" y="1905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IMAL get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si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246720" y="385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isconsin, Mad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 Simpson upside down yelling about al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4495680" y="2666880"/>
            <a:ext cx="511200" cy="8366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324480" y="42670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llinois, Springfie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248520" y="26668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is best eaten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’s 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t h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 rot="20632800">
            <a:off x="4734000" y="3119400"/>
            <a:ext cx="82692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858000" y="472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Kentucky, Frank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6248520" y="26668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v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 C’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7"/>
          <p:cNvSpPr/>
          <p:nvPr/>
        </p:nvSpPr>
        <p:spPr>
          <a:xfrm rot="20781600">
            <a:off x="4648320" y="3352320"/>
            <a:ext cx="990360" cy="4557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934320" y="5181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ennessee, Nashvi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ck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es his Si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4572000" y="3657600"/>
            <a:ext cx="533520" cy="9129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248520" y="4191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ssissippi, Jack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6248520" y="3505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 Gum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Alab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7"/>
          <p:cNvSpPr/>
          <p:nvPr/>
        </p:nvSpPr>
        <p:spPr>
          <a:xfrm>
            <a:off x="4876920" y="3657600"/>
            <a:ext cx="53316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6705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labama, Montgom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see her diamo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7"/>
          <p:cNvSpPr/>
          <p:nvPr/>
        </p:nvSpPr>
        <p:spPr>
          <a:xfrm>
            <a:off x="5257800" y="3581280"/>
            <a:ext cx="53352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640080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Georgia, Atla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u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ways wears 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um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carrot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7"/>
          <p:cNvSpPr/>
          <p:nvPr/>
        </p:nvSpPr>
        <p:spPr>
          <a:xfrm rot="20458200">
            <a:off x="5410080" y="3429000"/>
            <a:ext cx="60192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6248520" y="4114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outh Carolina, Colu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6-10-07T15:58:43Z</dcterms:modified>
  <cp:revision>39</cp:revision>
  <dc:subject/>
  <dc:title>United States</dc:title>
</cp:coreProperties>
</file>