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132-A83F-4A19-8999-06051AA8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9AD-0A23-4EF0-9CAD-686DBD6A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8E7A7-E9FB-4DB6-8F96-C2EAB862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3AA4E-1859-469E-99B5-0C10D34B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027D7-1B12-4E3A-9F9A-18B37415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282DB-4E56-42A0-ABE2-D8129CCB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385ED-B4B2-474D-A646-CF3EDDA5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6F16F-8941-4209-AE7B-28BFC514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D5803-BC1B-4C62-95FF-6ACF6E19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6DC6B-E368-4808-BD29-727C6240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D62D2-E6C4-41DB-8D42-766FF6AA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5C89A-2279-4F75-A3CB-892CB83B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52B-FF5C-46B1-947E-529FB77B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44B6E-D70C-4BEC-9A33-C7535676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AF750-89C2-4604-A681-7785A82E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48C7A-4D47-44FC-BC1D-94D28057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15D66-2D8C-4CEA-BCC5-E253A0B4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5993B-3B20-452D-AD1C-1F6A216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47F81-8E3C-4D01-8042-DD312B5A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BA4D3-D12F-4044-ABD1-25EDAAB1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3B4D2-A22F-4B3F-967E-1326234D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B79D3-2726-455B-9C64-BECBB8F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1D285-0F87-4256-B10C-1EC573EA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5AE-5E29-487F-AB0C-6054A48E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9C69-BE77-4997-9850-0E098DE3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BEF59-F361-43A6-A0E0-061C1F85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45808-5E00-4DA2-8545-0AE538B1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5826C-F518-4276-BCB2-B4A4D075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40349-3321-4C8D-9EAC-BD998EE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0158F-D2B7-4904-87BD-5EE90D41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BD11B-1167-405A-8F94-AF5FB63F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FBCD3-13E3-4EC7-A8B5-550BB727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D06F9-B5B3-4458-ADE9-67CF8EC8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AF984-2736-4F84-8DA1-ABBFC807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DCA6-6E14-48C1-B2C7-D9EEFAD8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AD07B-D5E8-4337-94A7-B3C1E646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B7A26-DDC4-4EE1-8BC5-B7DDB6B1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47D2B-416E-4582-889E-3B5BD718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0F083-9435-4C10-BFB4-AC38BB73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5D47E-774C-4520-BFF8-081A0EB1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CE5DF-B100-44F3-83E1-DF379435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C8C65-BE92-419A-B5DD-79A3F33F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07868-EA48-43A2-8F35-A012CA39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045D1-0325-4634-BE11-6183946B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7375C-4BE8-4E3E-A304-969359C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A383-458D-4E78-B69E-BF19DA4D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FEE48-DC1F-405F-8B25-2583B27A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4A404-4088-4209-AFF8-48D7C8B8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D65BC-7A52-4973-A653-14915491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71C0D-2F7D-467E-99EE-7EF6902D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860ED-27A2-49A6-99F5-16AB05B3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83D0-E05F-4DFA-B4D5-3757D726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EB04-3A2B-4CF8-BC11-7EDD5593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7907-CCD3-48B1-BA1D-C73A3CF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5556-AEFA-4DBD-BB43-B96F3AC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C506-9CA8-4FDE-9E23-C6EFD33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152-02B4-45D5-A9EE-6C15402C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8B47-DB79-4957-8455-FA164226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D28D-D79B-4063-8E63-B138A79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8D17-F83A-4171-879A-6648BE44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B21D-3E04-4DC1-9FBD-D8422FD2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2410-767D-4BCB-BF79-A743DA37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01C1-8F5E-4863-A8AF-3AC149B0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ED3B-EDB7-48D5-BFB9-35383049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7A35-ED28-4C37-893E-F1AE0EF6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6C1E-5F47-4246-83BE-6FC09FCE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2B26-5280-443D-8DD5-7693C9BB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8E6-BCFA-46C1-9122-2CCA727F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C60A-5436-49C4-AD27-6FA75B9F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B66D7-CEBA-4186-B386-2418A65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C04A-104C-40C9-A950-99D2CD1D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B507-7C03-4A10-A921-82671A7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A935-52C1-4DD4-A8C3-BB0495FE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0108B-59C0-4858-99A7-6170B2F6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7FA5-C30B-4510-962F-C61BCBAA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2A268-6346-43CE-A6B5-0D208CDA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AC61-DA3C-45C4-88D0-B4D0772F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F5FCA-C6F9-430F-90A6-593CED95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48C-4DEE-4080-B218-E34F72B5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F4DC-31D7-4ACD-9B8C-483C26C0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CAC8-D6E8-4CF0-BE22-351FB0F5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B215-B095-4869-AF71-68782FA8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BF20-7964-413E-BAFC-1DA014E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FAF8-38C3-4467-AD3C-212F294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6D9A-516E-46C5-BA64-3CBA7052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348B-20F4-40F3-A475-3C8C1D12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77B4-7C36-4632-9D06-E837E905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241F4-49C3-403D-BE57-E6A5DCE0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E044-8A21-4E96-8EEA-ED5F4238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574-3E50-4498-8D62-CDE452C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83E5-882F-4538-A873-46B29304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340D-C6FE-44A3-AB11-8F7940A3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BDF44-636D-41F6-B0BE-73DFDF4F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2068-28BD-4516-9B0B-47018F1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E6AF-0285-4293-826E-BB1B9572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E3E02-F228-484D-AE1E-CA243597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0CBC1-8E80-452C-989E-2F1AB41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581E5-BD9F-4B45-AFE0-3BE6AA02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EB84-14D4-43AF-A589-012CA8E8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39C5-1176-4DBD-A2BC-70DE991F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718-F5F0-4AFA-901B-3C009962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86686-7F7C-4C88-BF66-AD694B33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9635A-E391-42E8-AEA4-D7B14523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90298-EE49-47D0-9C41-E79958A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3D16-080C-415C-AD41-98E0AC5C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DD9B7-6B4A-4468-AD18-6BBE4CE5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6C0C-6676-4EE5-8685-F3490937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8FD4B-6167-4B2F-AB62-25EED93E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39344-E4E9-44F5-9E86-014802BE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B256-43BD-465A-BBF5-D5090D4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F823-083A-44AF-BECC-431B7A6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907-907E-4740-8331-6718DA6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697A6-868E-4FD3-B4A2-81B81141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BB212-EDB0-4A08-A10E-881A53D9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616DA-1201-48EA-AC3D-488D6099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A42A8-3AA4-4936-B0AA-87EBE7C3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AD6FC-368D-419D-A81E-293348E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BFC68-9DF0-43F6-8309-6E9EF3BA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E361-B910-435C-AA52-2FDFE45D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4AF7-9A99-45C8-991D-0BA9AE51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9590F-506F-4F8C-BE92-79256AD6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FBEE-2900-48A6-9BF0-05EFF6E3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780-8C49-4A6A-913D-793F0A7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2BA53-1622-4E13-848F-2D8529F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92C3F-427C-4885-8DBD-098225C7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A6FD2-FFA6-4DA7-87A8-809342E0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298DD-71B1-484B-A713-2A687FDF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A7174-F921-4A91-B508-B2E55E99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53269-1AE3-4524-99FF-A3971078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904BD-64C3-4242-BA1E-65D811BD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55CB3-55D0-466B-A607-E16AA23D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16C54-F937-4341-9BBA-27618AE5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164D4-ACB2-4469-AF0E-7C6BB11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8B1-685F-4AD3-955A-E3D0E3C7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914D4-1356-454A-9BAA-F5A4DC45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2D548-4A5B-47C6-8E37-46D9B95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1F5C5-1831-477C-A6CF-BEA0C592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91871-5E61-4719-850C-2C4A30F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1A0B7-83C0-4CCD-AA2B-98C57FA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36DED-CA71-4481-86CB-E5FFF594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2563F-36C0-4ADC-8438-09C20A03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FCAA6-892B-4956-8589-C266BACA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1EE28-1BA7-4C38-AAF5-5762DACB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E3592-C1A2-4898-BBFF-80578D9E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4FA1-DD16-497A-AD7D-FEE4CF4D2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CD61-6934-48D5-A624-6E31F8F5F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6080-C62E-46C0-91D8-E76D4F69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331C-6416-49DD-9DD2-6C40B40FC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4C82-7FCA-4200-A31F-B5B2E818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689-8C3A-465F-A5EF-1499AA6E0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F264-7E92-4BE4-B3B6-8B4AE6CD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B851-5B1E-4426-8B0B-CEE5141B6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9100-7ACA-4676-921D-18E97FF0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B73B-1585-4798-AC7F-0C220C511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1121-FD50-46B8-B797-2A7B4773F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D9C5-8A09-408C-9834-30E9F7DF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Northeastern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6705720" y="2209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 Gust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ind blew our horse’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a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019920" y="1523880"/>
            <a:ext cx="68580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858000" y="2819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ine, Augu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5486400" y="2438280"/>
            <a:ext cx="6858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324480" y="2590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ennsylvania, Harris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’ll 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New York shopp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7"/>
          <p:cNvSpPr/>
          <p:nvPr/>
        </p:nvSpPr>
        <p:spPr>
          <a:xfrm>
            <a:off x="5486400" y="1981080"/>
            <a:ext cx="76212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York, Alba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 W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5410080" y="2819520"/>
            <a:ext cx="457200" cy="533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6248520" y="3962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st Virginia, Charle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ch 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his sac of Mone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Freeform 7"/>
          <p:cNvSpPr/>
          <p:nvPr/>
        </p:nvSpPr>
        <p:spPr>
          <a:xfrm rot="20600400">
            <a:off x="5398920" y="2897280"/>
            <a:ext cx="808200" cy="619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4852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ginia, Rich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y L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5638680" y="2819520"/>
            <a:ext cx="587520" cy="3045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63244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ryland, An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a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imsuit when s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ve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iv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6019920" y="2743200"/>
            <a:ext cx="152280" cy="304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17220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Delaware, Do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4771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us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en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gh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Jers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5943600" y="2438280"/>
            <a:ext cx="38088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4771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Jersey, Tren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>
            <a:off x="6248520" y="2286000"/>
            <a:ext cx="152280" cy="303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68580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.I.P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ou little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Rhode Island, Provi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 is connected to RI and they hav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rt 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6095880" y="2362320"/>
            <a:ext cx="228600" cy="2286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0958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Connecticut, Hart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6629400" y="1981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opl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s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6095880" y="2209680"/>
            <a:ext cx="381240" cy="238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ssachusetts, Bo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6553080" y="243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xt door, ate all the je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6019920" y="1828800"/>
            <a:ext cx="2286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01992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ermont, Montpe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6629400" y="1905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6095880" y="1905120"/>
            <a:ext cx="28260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65530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#1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Hamp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e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nc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e je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Hampshire, Con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7-10-06T13:41:02Z</dcterms:modified>
  <cp:revision>39</cp:revision>
  <dc:subject/>
  <dc:title>United States</dc:title>
</cp:coreProperties>
</file>