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A2B7-A79D-4DD4-A6CE-24EB59390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04D2-BCBD-4C42-901B-242B2C2A0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5AECBD-1E92-489D-841F-F803BAA62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136658-6326-4AE3-8700-D2B1AB5DD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C3717C-74D0-4E56-BB6B-912AE6B7F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6400BA-F52D-4B7C-9816-D8D2E9C2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A7BC5E-6764-4FDF-9EF8-DA1573F0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6FBC01-6FF1-4CBE-A312-9A3EF8B2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19EFBA-0483-4857-8630-DEB21D32A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67E244-A7F4-4E84-832E-B0D9374E3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B071EB-DE65-47A9-8895-3A0E7B474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EF5657-C4D7-4DFF-AF8C-90C874081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6450-4650-4951-A4F1-D5DC8B423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CE5AD6-C604-4BC3-BE0C-08F5C0FCB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3D73BB-1447-4AB6-BF21-213DA8D31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43D73E-6CFA-4351-B0EF-30D47C52E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78ACDD-C74C-490C-A122-9D59A0D25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CAEF4D-0556-491D-9EB0-C0F27403D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A3DA02-81D9-4B48-9A10-090D6862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7C14A4-C6AE-4CE4-81B8-5C368306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240B19-9721-4345-8A2F-227CC21F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906625-8161-4866-82B7-E90D17F4B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73A2A8-F170-439A-ADDA-D20CD737B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6C3D-2A6A-4160-9684-B037E6049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AF63AA-2BDA-44B4-881F-30F8ACF9A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C1FB70-01A9-45EF-909A-643D41723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EB2EAA-B2A3-47EE-841C-A7D610B6E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6FEC6C-DF43-4B93-AE39-33C75C365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6126A8-DE94-450B-8FC3-181E60218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CF8F53-7539-43EB-98DC-31D8CC936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F5BC80-35D0-4E79-A7C1-EC6F567EF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6BFAD1-ED7E-4C30-A81F-18DB13EF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474F3F-9CD3-4B38-BBF7-6BD8F9F0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5E671F-C637-4ACB-8921-DE632EB6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03683-68DB-4770-97D6-81065B0B8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DD155A-9FA7-4569-B6C0-A4728B78A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53D222-ED65-4B31-8791-B88EDFE0C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007040-7681-4A8A-84FE-CAE34E047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346801-E5F2-4295-A40E-D2F2EC4E5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F99A67-09D6-48FE-B0F1-A94998CB0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01C3C6-A9E3-41A0-BD4E-34F873E54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EFB3E0-22A2-4BE9-A940-36D009258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61D15E-7D19-4154-BD4F-5E7462D54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3B523B-1622-4806-B9B0-05137FAFC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434AAC-DE89-45ED-BF3A-7215EB16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5496F-F526-433F-8C96-09698E54D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244F41-6A6C-4C7E-AE31-31B57D57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722C6B-8E5B-451F-9E7E-A686B8EF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F1FEB0-5B2A-4B34-BE95-DFA407119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06C6D8-9352-402B-88D7-3578F6FE2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99DDF0-1A99-4477-9E37-EB2D267D3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9D090-EF19-4B98-AFFD-BA7418011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2D8B0-B8EB-4E00-86AF-2CCBA808A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B64FB-4F63-471F-B5A3-A2D960E7D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01317-A9F0-4479-8BEE-FF9C6A884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B9FD7-BFCD-4A6E-81E0-08AB1EC4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8756-DAE8-468B-B532-172F7D95C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7F36F-C759-4319-8CE5-6653AD66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8265F-A882-43AC-A688-2D8BB846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16D4C-F176-4930-9562-66D567E21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C267A-5AE5-4584-BBF5-10F06A465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B6EFF-0FCE-4C9A-9010-9DF8D3096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5431C-2E44-4C6B-9A21-BCE537FF9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DB74C-FC89-4A15-A8F0-5C935EAD0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8A1D4-83EE-455F-A697-78D5F39F0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DF0E6-B64A-4A17-AD7E-F19DE0B85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31A5B-7C39-4BCE-A77F-E422222EC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A3D1-842E-4E07-B098-91AAB37D3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3B765-07BC-4986-B056-BF3DE3FBA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70F03-2A45-47DC-8A72-1FA9795B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DFDCA-E750-43C0-9A60-F8BF480E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C9A38-48A2-486F-9F8B-BCE22288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64A2C-758E-4B0E-A0DC-8852EF874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DEA61-022A-4ACE-BF1C-6AAF0C8EF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45C79-2E1E-4A45-ABEB-F4755EB19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29AE7-623D-423A-A8AD-68D8A6B07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C9B7B-B7F6-4CB9-949C-DFFF6DB1D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87829-B61F-4705-8E97-1BB02B2C8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EF21-2DBA-4C44-93BD-58D4D29D9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71B8B-6842-42FF-9716-9083FC5CE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04372-88BF-49F5-8DFE-F6687CA17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32FED-8D4F-4F15-A5A8-94D10F33F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757DA-65C9-44B9-9468-CBA45743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6EAA1-0387-4A0C-B331-7A6CA8C0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785F0-8C5E-4616-BE74-E12D11E8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9B4B1-825D-4C4C-854A-6A162263E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B8F73-FB10-4396-A8C3-3B0D46746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86B41-8355-4B3E-915F-7D7D501FC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40EFE-B6A7-4A21-9F4D-07261E14A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2A0F-50A3-4204-9116-44B43D1C0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76531-9EE8-4A27-9A18-773A9AC94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15CD2-4E4F-4324-AAA8-CA2741046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C012E-AD23-4086-A67C-3DBAB6E58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1D06A-B52B-49CE-92D2-4016685FB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31CFD-A06C-4C00-8598-78A617CA3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29678-C900-4C34-ADE4-72C2B087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51B8F-FA93-452A-B2E7-69695159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42710-C92A-440A-B87D-1648889F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7395D-8F9D-43A1-B453-21AC72446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820BA-E56F-471D-817A-9F6395E44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0A4B-7960-40BD-886A-D4316D08D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FF04A-C950-4D0C-94B8-96EE00721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F3FBB-E8B3-4CDD-A6B6-455ACFC17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9A62B-2AA1-402A-B881-F217236BB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C9BE8-9BC3-4EBE-93BE-A2D249F46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53141-B269-4F1D-BC5E-411B69FCE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06FA7-1284-44EA-BF91-9FA6B7212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A29071-74D7-4618-A81E-CE8CABF1C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C8435-39B2-430E-9316-E387F087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B8418-03C3-4E56-BC6C-A5CCC4F3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285EBD-0CC0-43EB-9560-AEFC44A0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E92A-3806-41EE-A7CA-F562E4C2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67B94-3EFE-4838-A802-D11A46C5C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17CEB-C423-4FA4-8757-BFF387D41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5F6180-D232-43F6-865D-0B24E9DE2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C0A48-3666-4AAC-A47A-5CD7315B9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FE609-9CB6-47BC-9439-25D04345D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47D0C-96CC-45E4-994E-115E70A08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7D5EF-D907-471B-9E8D-B00516F3F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12FD7C-F67E-40E3-B9D0-3B7BE88EE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B5CF7-65BD-4C60-9E37-DF7D3FCFD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DB643-E988-4E6D-AE45-29EC4A02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B811-3BB2-4959-9C0E-4BECD6A6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04E4AF-FE1B-44B7-BA11-E478FBD6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5A91C3-B7C1-4AA0-9E65-14D1ED0F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70EEDC-230E-4430-A82D-169B6718F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D053F-0C3D-4D12-A7EE-A9934B125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C1D84-2959-49E3-87F6-020EF7BA7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BC25DA-73B2-485B-BF4B-88C17CD70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A947F0-F4AF-44BD-AE4B-7DDD886F7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AB65C4-7022-4360-8157-8EB3FB799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BF2944-9DD7-475A-9BF4-7A35801DC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90DF64-1883-4C17-B549-93055D07B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8B7E-19F8-4597-A604-9F743E2C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86475A-4849-4736-9CE3-379F0BB1B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76DFDD-0E27-4544-8A72-0C3CBC5E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A7A54D-43BE-4D3F-A602-B7B8BBF7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9DC900-F30C-44B4-82E6-3BDD573D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8010BF-A230-499A-AF55-E8B2820CE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6B3DA0-85CD-4944-A6CE-43895787D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0FFFD3-6F95-4770-81E2-519CE9DF9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817990-685F-4A65-9F23-66C2D5093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8B220A-CA86-48E4-AF90-670426B3E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138E6B-93C2-4325-89AF-598F9DC8D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A48D2-C702-41A6-8D77-654B08418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06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86863-7816-4F57-89D0-11CB29024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5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DFD3D-BCD9-4BD8-A413-8986D61E5D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96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7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5932D-F72C-493D-BB40-27FF2A0D8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2A862-45F2-4588-88A8-EFF15B0F80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9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537F0-8282-4FA5-8A40-00DBD0A711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36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34D4F-C92B-4261-91AC-CF8FE169CA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8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E34CF-D5C2-42DB-8B62-951B60E7B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226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90E83-EDF7-4DA9-AF83-689032CD1A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27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21622-3F7B-4AD8-ADC7-E575BCFDEF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316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2A11D-6AB0-463B-A206-CFE55790E8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36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CB324-529E-4396-9D4F-642B0E9819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United State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3 Eastern States and Capitals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est 2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2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93" name="Text Box 5"/>
          <p:cNvSpPr/>
          <p:nvPr/>
        </p:nvSpPr>
        <p:spPr>
          <a:xfrm>
            <a:off x="6248520" y="26668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ta’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leig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es from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r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th his sac of toys for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aroli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Freeform 7"/>
          <p:cNvSpPr/>
          <p:nvPr/>
        </p:nvSpPr>
        <p:spPr>
          <a:xfrm rot="20349000">
            <a:off x="5343480" y="3259080"/>
            <a:ext cx="884160" cy="4669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Text Box 8"/>
          <p:cNvSpPr/>
          <p:nvPr/>
        </p:nvSpPr>
        <p:spPr>
          <a:xfrm>
            <a:off x="6172200" y="42670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North Carolina, Raleig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8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99" name="Text Box 5"/>
          <p:cNvSpPr/>
          <p:nvPr/>
        </p:nvSpPr>
        <p:spPr>
          <a:xfrm>
            <a:off x="6248520" y="2666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ichig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s Mitten grabbing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a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Freeform 7"/>
          <p:cNvSpPr/>
          <p:nvPr/>
        </p:nvSpPr>
        <p:spPr>
          <a:xfrm>
            <a:off x="4572000" y="2057400"/>
            <a:ext cx="808200" cy="7621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Text Box 8"/>
          <p:cNvSpPr/>
          <p:nvPr/>
        </p:nvSpPr>
        <p:spPr>
          <a:xfrm>
            <a:off x="6324480" y="40384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Michigan, Lans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4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605" name="Text Box 5"/>
          <p:cNvSpPr/>
          <p:nvPr/>
        </p:nvSpPr>
        <p:spPr>
          <a:xfrm>
            <a:off x="6248520" y="266688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Freeform 9"/>
          <p:cNvSpPr/>
          <p:nvPr/>
        </p:nvSpPr>
        <p:spPr>
          <a:xfrm>
            <a:off x="4800600" y="2666880"/>
            <a:ext cx="457200" cy="7621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Text Box 10"/>
          <p:cNvSpPr/>
          <p:nvPr/>
        </p:nvSpPr>
        <p:spPr>
          <a:xfrm>
            <a:off x="6400800" y="28954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 Clue Giv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Text Box 11"/>
          <p:cNvSpPr/>
          <p:nvPr/>
        </p:nvSpPr>
        <p:spPr>
          <a:xfrm>
            <a:off x="6248520" y="40384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Indiana, Indianapol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" dur="2000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1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612" name="Text Box 5"/>
          <p:cNvSpPr/>
          <p:nvPr/>
        </p:nvSpPr>
        <p:spPr>
          <a:xfrm>
            <a:off x="6248520" y="2666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said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“O Hi O” to Columbus’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a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Freeform 9"/>
          <p:cNvSpPr/>
          <p:nvPr/>
        </p:nvSpPr>
        <p:spPr>
          <a:xfrm>
            <a:off x="5105520" y="2590920"/>
            <a:ext cx="533160" cy="60948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Text Box 10"/>
          <p:cNvSpPr/>
          <p:nvPr/>
        </p:nvSpPr>
        <p:spPr>
          <a:xfrm>
            <a:off x="6400800" y="36576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Ohio, Columbu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7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618" name="Text Box 5"/>
          <p:cNvSpPr/>
          <p:nvPr/>
        </p:nvSpPr>
        <p:spPr>
          <a:xfrm>
            <a:off x="6248520" y="35812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rida’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ail is Sass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Freeform 7"/>
          <p:cNvSpPr/>
          <p:nvPr/>
        </p:nvSpPr>
        <p:spPr>
          <a:xfrm rot="19281600">
            <a:off x="5279760" y="3949200"/>
            <a:ext cx="685800" cy="118584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Text Box 8"/>
          <p:cNvSpPr/>
          <p:nvPr/>
        </p:nvSpPr>
        <p:spPr>
          <a:xfrm>
            <a:off x="6400800" y="25909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Florida, Tallahasse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4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45" name="Freeform 7"/>
          <p:cNvSpPr/>
          <p:nvPr/>
        </p:nvSpPr>
        <p:spPr>
          <a:xfrm>
            <a:off x="4203720" y="2162160"/>
            <a:ext cx="774720" cy="628560"/>
          </a:xfrm>
          <a:custGeom>
            <a:avLst/>
            <a:gdLst/>
            <a:ahLst/>
            <a:rect l="l" t="t" r="r" b="b"/>
            <a:pathLst>
              <a:path w="488" h="396">
                <a:moveTo>
                  <a:pt x="461" y="311"/>
                </a:moveTo>
                <a:cubicBezTo>
                  <a:pt x="449" y="266"/>
                  <a:pt x="438" y="235"/>
                  <a:pt x="406" y="201"/>
                </a:cubicBezTo>
                <a:cubicBezTo>
                  <a:pt x="388" y="148"/>
                  <a:pt x="392" y="84"/>
                  <a:pt x="333" y="64"/>
                </a:cubicBezTo>
                <a:cubicBezTo>
                  <a:pt x="293" y="26"/>
                  <a:pt x="230" y="19"/>
                  <a:pt x="177" y="9"/>
                </a:cubicBezTo>
                <a:cubicBezTo>
                  <a:pt x="137" y="13"/>
                  <a:pt x="87" y="0"/>
                  <a:pt x="58" y="28"/>
                </a:cubicBezTo>
                <a:cubicBezTo>
                  <a:pt x="43" y="42"/>
                  <a:pt x="42" y="66"/>
                  <a:pt x="31" y="83"/>
                </a:cubicBezTo>
                <a:cubicBezTo>
                  <a:pt x="35" y="165"/>
                  <a:pt x="0" y="265"/>
                  <a:pt x="86" y="293"/>
                </a:cubicBezTo>
                <a:cubicBezTo>
                  <a:pt x="106" y="375"/>
                  <a:pt x="96" y="342"/>
                  <a:pt x="113" y="393"/>
                </a:cubicBezTo>
                <a:cubicBezTo>
                  <a:pt x="235" y="390"/>
                  <a:pt x="358" y="396"/>
                  <a:pt x="479" y="384"/>
                </a:cubicBezTo>
                <a:cubicBezTo>
                  <a:pt x="488" y="383"/>
                  <a:pt x="488" y="231"/>
                  <a:pt x="461" y="311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 Box 8"/>
          <p:cNvSpPr/>
          <p:nvPr/>
        </p:nvSpPr>
        <p:spPr>
          <a:xfrm>
            <a:off x="6629400" y="190512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e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hi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MIMAL gets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easil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 Box 10"/>
          <p:cNvSpPr/>
          <p:nvPr/>
        </p:nvSpPr>
        <p:spPr>
          <a:xfrm>
            <a:off x="6246720" y="38592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Wisconsin, Madis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0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51" name="Text Box 5"/>
          <p:cNvSpPr/>
          <p:nvPr/>
        </p:nvSpPr>
        <p:spPr>
          <a:xfrm>
            <a:off x="6248520" y="26668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ge Simpson upside down yelling about all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i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pringfiel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Freeform 7"/>
          <p:cNvSpPr/>
          <p:nvPr/>
        </p:nvSpPr>
        <p:spPr>
          <a:xfrm>
            <a:off x="4495680" y="2666880"/>
            <a:ext cx="511200" cy="83664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Text Box 8"/>
          <p:cNvSpPr/>
          <p:nvPr/>
        </p:nvSpPr>
        <p:spPr>
          <a:xfrm>
            <a:off x="6324480" y="42670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Illinois, Springfiel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6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5"/>
          <p:cNvSpPr/>
          <p:nvPr/>
        </p:nvSpPr>
        <p:spPr>
          <a:xfrm>
            <a:off x="6248520" y="2666880"/>
            <a:ext cx="25146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 is best eaten i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rank’s Fo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ran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ses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o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eat hi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Freeform 7"/>
          <p:cNvSpPr/>
          <p:nvPr/>
        </p:nvSpPr>
        <p:spPr>
          <a:xfrm rot="20632800">
            <a:off x="4734000" y="3119400"/>
            <a:ext cx="826920" cy="45720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Text Box 8"/>
          <p:cNvSpPr/>
          <p:nvPr/>
        </p:nvSpPr>
        <p:spPr>
          <a:xfrm>
            <a:off x="6858000" y="47242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Kentucky, Frankfor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2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63" name="Text Box 5"/>
          <p:cNvSpPr/>
          <p:nvPr/>
        </p:nvSpPr>
        <p:spPr>
          <a:xfrm>
            <a:off x="6248520" y="2666880"/>
            <a:ext cx="2514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play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enn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shvill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s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en C’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Freeform 7"/>
          <p:cNvSpPr/>
          <p:nvPr/>
        </p:nvSpPr>
        <p:spPr>
          <a:xfrm rot="20781600">
            <a:off x="4648320" y="3352320"/>
            <a:ext cx="990360" cy="45576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Text Box 8"/>
          <p:cNvSpPr/>
          <p:nvPr/>
        </p:nvSpPr>
        <p:spPr>
          <a:xfrm>
            <a:off x="6934320" y="51814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Tennessee, Nashvil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8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5"/>
          <p:cNvSpPr/>
          <p:nvPr/>
        </p:nvSpPr>
        <p:spPr>
          <a:xfrm>
            <a:off x="6248520" y="2666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hael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Jacks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isses his Sipp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up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Freeform 7"/>
          <p:cNvSpPr/>
          <p:nvPr/>
        </p:nvSpPr>
        <p:spPr>
          <a:xfrm>
            <a:off x="4572000" y="3657600"/>
            <a:ext cx="533520" cy="91296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Text Box 8"/>
          <p:cNvSpPr/>
          <p:nvPr/>
        </p:nvSpPr>
        <p:spPr>
          <a:xfrm>
            <a:off x="6248520" y="41911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Mississippi, Jacks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4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75" name="Text Box 5"/>
          <p:cNvSpPr/>
          <p:nvPr/>
        </p:nvSpPr>
        <p:spPr>
          <a:xfrm>
            <a:off x="6248520" y="35053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ount Gumm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in Alabam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Freeform 7"/>
          <p:cNvSpPr/>
          <p:nvPr/>
        </p:nvSpPr>
        <p:spPr>
          <a:xfrm>
            <a:off x="4876920" y="3657600"/>
            <a:ext cx="533160" cy="7621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Text Box 8"/>
          <p:cNvSpPr/>
          <p:nvPr/>
        </p:nvSpPr>
        <p:spPr>
          <a:xfrm>
            <a:off x="6705720" y="228600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Alabama, Montgomer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0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81" name="Text Box 5"/>
          <p:cNvSpPr/>
          <p:nvPr/>
        </p:nvSpPr>
        <p:spPr>
          <a:xfrm>
            <a:off x="6248520" y="2666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t La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eorg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see her diamon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Freeform 7"/>
          <p:cNvSpPr/>
          <p:nvPr/>
        </p:nvSpPr>
        <p:spPr>
          <a:xfrm>
            <a:off x="5257800" y="3581280"/>
            <a:ext cx="533520" cy="6955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8"/>
          <p:cNvSpPr/>
          <p:nvPr/>
        </p:nvSpPr>
        <p:spPr>
          <a:xfrm>
            <a:off x="6400800" y="39625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Georgia, Atlan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6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87" name="Text Box 5"/>
          <p:cNvSpPr/>
          <p:nvPr/>
        </p:nvSpPr>
        <p:spPr>
          <a:xfrm>
            <a:off x="6248520" y="266688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aunt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aroli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lways wears her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lumbi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‘carrot’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Freeform 7"/>
          <p:cNvSpPr/>
          <p:nvPr/>
        </p:nvSpPr>
        <p:spPr>
          <a:xfrm rot="20458200">
            <a:off x="5410080" y="3429000"/>
            <a:ext cx="601920" cy="60948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 Box 8"/>
          <p:cNvSpPr/>
          <p:nvPr/>
        </p:nvSpPr>
        <p:spPr>
          <a:xfrm>
            <a:off x="6248520" y="411480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South Carolina, Columb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13:35:24Z</dcterms:created>
  <dc:creator>Penn Cambria School District</dc:creator>
  <dc:description/>
  <dc:language>en-US</dc:language>
  <cp:lastModifiedBy>John Edgell</cp:lastModifiedBy>
  <dcterms:modified xsi:type="dcterms:W3CDTF">2016-10-07T15:58:43Z</dcterms:modified>
  <cp:revision>39</cp:revision>
  <dc:subject/>
  <dc:title>United States</dc:title>
</cp:coreProperties>
</file>