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24E-80AA-48BC-A34C-CDA5D02F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286-C5D9-440D-94F7-CC89B998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77326-1760-4363-91CC-6FAD7FF1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CD681-EFFA-4B21-9C03-FD31437B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9926E-6978-4958-A5B2-A7AD8954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7EE2A-1E5F-4E5B-9994-69936855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7DE28-5507-4ED6-9C10-D8585CF2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DF678-64BA-44FC-989F-B9A47082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DA7A8-4865-4931-AD40-A6149C2F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3788B-EC6F-4028-877F-94740696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821A0-48D5-44F9-AE28-D016AABE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52BAC-7A51-48A9-90EF-46FA1BA3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69C-9F40-4BED-8839-FA7DCC49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04592-26FC-44C3-8851-968B467A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D25EC-F127-4C1C-A75A-EDF75415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10A91-2908-4E22-BA1E-305DCCA7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B3B16-2DB0-4A8B-B7D3-CB3D6890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D147F-48C1-49EA-81DE-6BD26CEB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84BE2-6A83-41E4-A466-E7061144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3D940-2F99-4FF2-AD7D-33F7AE2D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6A3D1-27B8-40D2-B6A9-1416A05F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B8ABE-9032-4C4A-A0D9-C4544539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4D709-C096-4AA7-B1B6-4C4D2556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F41-1483-4502-8F5A-AA33C134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E93B7-348C-42EB-8468-5F6AD64A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4E24D-2F83-4235-A3A3-58672981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D524B-C622-40FC-9856-1377AD0C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C02B7-315D-4C06-9A49-4F93EB00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9E83D-79A2-4A31-87C0-534217BD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492B6-35FD-45BA-A1FC-1D722445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C4B7D-0C9F-45DA-809B-829FEA4C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6A00A-8F7B-417F-9D53-5612FBCD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A0FDC-4A67-44B6-8575-72808239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154C5-6643-4801-B923-7164E27D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C0DB-7AC1-4E52-8293-0128E758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BC1A7-B8AC-482F-BB8E-B2551700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4BE31-E8FB-4191-A598-A91E79A5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1DE95-FF17-462C-8AE9-E9EC1B0C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A1559-59D4-4609-AABF-A04D2DAD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77A69-2D86-4F02-ACB5-51088624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42806-339B-4D61-80DF-29FC58D0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43F10-7BB4-4FC5-A3E9-9CDB4A16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4A1E4-1D1A-46DD-8D8F-47D72BB4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5ECDE-9014-4764-BC79-7B267F11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78697-8CCC-47FE-A20B-1711BF7D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2E13-BF7F-4FB9-BB76-E5133BBB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2E21F-F066-403B-8D5E-1B92D868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015FA-F9F6-4D84-BA91-C31F3D01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EC7E6-36A9-4798-B85F-356FD878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95693-83C8-4613-8044-0DA3147F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B36F4-79C1-40F5-9E64-4A7B5091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97EA-427D-44AB-882A-5D7C12F4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28BD-0DF5-43B4-81EF-7779FC65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2083-ED22-4F4A-824A-CFC77DEB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C708-EF27-4D92-9409-CB74F035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311E-4C76-437A-8DD2-E7E955BA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3CC-4B17-47BF-BED4-713A3315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8BE2-7E85-44D2-B3EB-AED1F20D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7371-2389-466F-AA93-9188B774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1650-53FA-465D-AFC3-7484B853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14CF-0801-41D4-BD2E-91FA8D5A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5893-E2AD-4948-A0F7-C7130E6D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47C8-8021-497C-B9E2-12ABAEA5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FAE1-B52A-4A24-9481-91F437F6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83E8-4A8A-4A0F-AD27-E908D401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1D3F-93B4-48B3-AFFF-29525B67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21C8-F1F8-41C8-B741-50A3E65F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64E-E632-4805-A15D-FAAFAADA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F1A6-9B79-466B-AB0A-BD9DCB6E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F2BC-E332-4E5B-803B-5D632CCD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9937F-E42F-4AFB-83D3-AF24C1D9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1C429-D931-4C61-9DCC-0A613381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3032A-27BD-48A9-A1EB-55A26EA3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8F994-1472-42BC-8369-E1817B77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A597-9EE0-488E-89A5-54E5E2D9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E2795-4A6B-4B59-AE42-AA157625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0BA29-B6E8-481B-AE08-2402A385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AF4F2-3D77-4337-90C7-C2BC31DD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86D-085F-44AB-9139-96C65D39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8BA17-2DAE-43ED-B9C9-871D6443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B5669-B44C-4539-8EE8-66538DBF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18FB7-C227-4DE4-89DC-443DA61C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50B1D-802E-4306-BF64-EF31FAAD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B024-B105-41CE-8165-40CBBDC6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E2A3F-A4A6-4188-BB38-5B86E7A0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029D1-2A15-49E2-8BB6-0275F06A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B987B-751A-438F-A391-8231332C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56C5-61C5-4170-8F0C-3D842000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DEBDA-B10E-44E6-B31B-5DEDF132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7E5-13EC-4AD5-BAAF-3FA80D99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B95C7-2D8A-4B3D-A51B-B2429CA7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AFC57-A4D7-4977-8DDD-F33F57D5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967B0-F5D9-4C8D-9311-0F661595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AF7F2-36E9-4602-B350-F7F10A74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3210B-8F43-4020-95FB-7948CF39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1F5AE-C813-415E-B373-8104058C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8CD9E-0105-4AA2-B481-B37C9C1B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E98E9-2E1D-4C4E-A2FD-D5897399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526F3-4B37-4064-834A-D401C437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01FF7-C8BE-416E-8185-4AED064F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F22-F041-43FF-BFE4-A9995A5A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64DB8-6D71-4D86-9A39-208B79C6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C35FE-3768-49FA-98C3-C0BA4D32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98A82-18E2-4DF2-97FB-41C93686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15A27-8B19-4B53-B773-E5CE49B0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039E7-7F9C-4C97-9FD0-FA5DAFBA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C5F00-6AD3-4888-83CA-1A2C7648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328E6-5635-4DCB-BF15-EAFBF63E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FF3A8-9530-45B3-B72C-41E8CB84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77FE3-5922-4426-AFEB-B591584A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71C77-5F95-49C0-A5CA-C67CF76A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ADD-7097-47F1-A31A-739F8A3C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930B0-C048-4298-9B64-209A0F27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46EB-1126-4D59-99D2-8B4A8EF4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209D9-F77B-4478-8869-9EBB6204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3F8E3-3409-49BB-BD98-B36DF26D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C5724-B908-404F-AB96-BEEF38EF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4052D-D5DC-4758-ADEE-963DC2D0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5C07D-9006-477E-883C-A20C324B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39184-A257-44D0-83D9-6CCF89B6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C383F-4AEC-4848-9FA1-74DD4E4C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17091-1504-46E3-A73A-6A169B24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7BC-78F3-4644-90D8-70181115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5417F-578A-4286-BD66-759C4FCE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84A22-DB20-48D7-BA71-34076744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89E4D-60EA-4C0C-AAEC-DACC1808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9F9EA-2CEA-4EF3-961A-2C0C83B5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9D248-95B8-44D6-96FE-72345F9E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5CEBE-212E-4A12-AF80-09B916E7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996A2-D329-46B7-8FCB-60701363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AAE04-5633-4A2A-B0C4-C0F30F65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250FC-3701-4CE9-9E03-2FAFBF9D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5C2AF-C5AC-4C92-B8C0-1DD6258A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9EE-C910-42AC-B573-21331E9F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870D3-363E-465C-AA3F-61CD9090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E1324-346E-4190-B993-E37616F7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BE9BB-E2C7-4EF4-ACD0-E5B3F04C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C3A9E-B8BE-4117-8C74-39054FC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AFE45-DAF9-439C-82FD-0423C7EF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C990B-002B-4A82-9152-A77F0512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F5FBF-24E5-4777-B56F-2350500E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04760-5415-434A-93A2-8B10DA86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2D60D-027B-4AE4-B054-02B54D04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CC965-10D5-4F62-81F1-D342A127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3FF2-EC0A-44C9-B63D-638B0CC49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15E1-2568-4B67-91F6-18FB0442E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97BF-33ED-4229-B258-1A7D7BDF4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AAA4-0ECA-4D4D-BB71-9CDF1A0F1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D74C-482B-4D7D-8DCA-D19CA8116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C34B-714B-4287-8BBE-510E47E66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A7EF-92AE-4E26-8554-28E771AEB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4963-0459-4CD3-AC77-1A92FB15E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05BB-9C6E-4EE6-B9AC-17338F575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8723-A321-4226-92DA-0E967007C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0C20-1275-462B-AE62-B57FB8234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F3D9-F4F2-4F80-BC4A-3E18C1B93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Eastern States and Capit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le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es from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sac of toys 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Freeform 7"/>
          <p:cNvSpPr/>
          <p:nvPr/>
        </p:nvSpPr>
        <p:spPr>
          <a:xfrm rot="20349000">
            <a:off x="5343480" y="3259080"/>
            <a:ext cx="88416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orth Carolina, Raleig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hig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Mitten grabb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Freeform 7"/>
          <p:cNvSpPr/>
          <p:nvPr/>
        </p:nvSpPr>
        <p:spPr>
          <a:xfrm>
            <a:off x="4572000" y="2057400"/>
            <a:ext cx="808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324480" y="4038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chigan, Lan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Freeform 9"/>
          <p:cNvSpPr/>
          <p:nvPr/>
        </p:nvSpPr>
        <p:spPr>
          <a:xfrm>
            <a:off x="4800600" y="2666880"/>
            <a:ext cx="457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6400800" y="289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Giv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6248520" y="4038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ndiana, India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“O Hi O” to Columbus’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Freeform 9"/>
          <p:cNvSpPr/>
          <p:nvPr/>
        </p:nvSpPr>
        <p:spPr>
          <a:xfrm>
            <a:off x="5105520" y="2590920"/>
            <a:ext cx="53316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6400800" y="3657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Ohio, Columb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5"/>
          <p:cNvSpPr/>
          <p:nvPr/>
        </p:nvSpPr>
        <p:spPr>
          <a:xfrm>
            <a:off x="624852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il is Sass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Freeform 7"/>
          <p:cNvSpPr/>
          <p:nvPr/>
        </p:nvSpPr>
        <p:spPr>
          <a:xfrm rot="19281600">
            <a:off x="5279760" y="3949200"/>
            <a:ext cx="685800" cy="11858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400800" y="2590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Florida, Tallahass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Freeform 7"/>
          <p:cNvSpPr/>
          <p:nvPr/>
        </p:nvSpPr>
        <p:spPr>
          <a:xfrm>
            <a:off x="4203720" y="2162160"/>
            <a:ext cx="774720" cy="628560"/>
          </a:xfrm>
          <a:custGeom>
            <a:avLst/>
            <a:gdLst/>
            <a:ahLst/>
            <a:rect l="l" t="t" r="r" b="b"/>
            <a:pathLst>
              <a:path w="488" h="396">
                <a:moveTo>
                  <a:pt x="461" y="311"/>
                </a:moveTo>
                <a:cubicBezTo>
                  <a:pt x="449" y="266"/>
                  <a:pt x="438" y="235"/>
                  <a:pt x="406" y="201"/>
                </a:cubicBezTo>
                <a:cubicBezTo>
                  <a:pt x="388" y="148"/>
                  <a:pt x="392" y="84"/>
                  <a:pt x="333" y="64"/>
                </a:cubicBezTo>
                <a:cubicBezTo>
                  <a:pt x="293" y="26"/>
                  <a:pt x="230" y="19"/>
                  <a:pt x="177" y="9"/>
                </a:cubicBezTo>
                <a:cubicBezTo>
                  <a:pt x="137" y="13"/>
                  <a:pt x="87" y="0"/>
                  <a:pt x="58" y="28"/>
                </a:cubicBezTo>
                <a:cubicBezTo>
                  <a:pt x="43" y="42"/>
                  <a:pt x="42" y="66"/>
                  <a:pt x="31" y="83"/>
                </a:cubicBezTo>
                <a:cubicBezTo>
                  <a:pt x="35" y="165"/>
                  <a:pt x="0" y="265"/>
                  <a:pt x="86" y="293"/>
                </a:cubicBezTo>
                <a:cubicBezTo>
                  <a:pt x="106" y="375"/>
                  <a:pt x="96" y="342"/>
                  <a:pt x="113" y="393"/>
                </a:cubicBezTo>
                <a:cubicBezTo>
                  <a:pt x="235" y="390"/>
                  <a:pt x="358" y="396"/>
                  <a:pt x="479" y="384"/>
                </a:cubicBezTo>
                <a:cubicBezTo>
                  <a:pt x="488" y="383"/>
                  <a:pt x="488" y="231"/>
                  <a:pt x="461" y="311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629400" y="1905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MIMAL get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si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6246720" y="385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isconsin, Mad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 Simpson upside down yelling about al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4495680" y="2666880"/>
            <a:ext cx="511200" cy="8366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324480" y="42670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llinois, Springfie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248520" y="2666880"/>
            <a:ext cx="2514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 is best eaten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’s 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at h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 rot="20632800">
            <a:off x="4734000" y="3119400"/>
            <a:ext cx="82692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858000" y="4724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Kentucky, Frank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6248520" y="26668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pla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vil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 C’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Freeform 7"/>
          <p:cNvSpPr/>
          <p:nvPr/>
        </p:nvSpPr>
        <p:spPr>
          <a:xfrm rot="20781600">
            <a:off x="4648320" y="3352320"/>
            <a:ext cx="990360" cy="4557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6934320" y="5181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Tennessee, Nashvi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ack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ses his Sip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4572000" y="3657600"/>
            <a:ext cx="533520" cy="9129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248520" y="4191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ssissippi, Jack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6248520" y="3505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nt Gum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Alab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7"/>
          <p:cNvSpPr/>
          <p:nvPr/>
        </p:nvSpPr>
        <p:spPr>
          <a:xfrm>
            <a:off x="4876920" y="3657600"/>
            <a:ext cx="53316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670572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Alabama, Montgom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 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see her diamo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7"/>
          <p:cNvSpPr/>
          <p:nvPr/>
        </p:nvSpPr>
        <p:spPr>
          <a:xfrm>
            <a:off x="5257800" y="3581280"/>
            <a:ext cx="53352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6400800" y="3962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Georgia, Atlan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au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ways wears h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lumb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carrot’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7"/>
          <p:cNvSpPr/>
          <p:nvPr/>
        </p:nvSpPr>
        <p:spPr>
          <a:xfrm rot="20458200">
            <a:off x="5410080" y="3429000"/>
            <a:ext cx="60192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6248520" y="41148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South Carolina, Colu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6-10-07T15:58:43Z</dcterms:modified>
  <cp:revision>39</cp:revision>
  <dc:subject/>
  <dc:title>United States</dc:title>
</cp:coreProperties>
</file>