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735-156A-4521-8504-BA18A8E9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26D-557B-470B-A273-519A3825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CCA7-CC54-4836-9032-8C1236D0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D3A15-BC58-4614-B0A1-514D91AD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F24A5-A31E-4866-A0E7-9EB6511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9F0D5-B484-4130-81F7-FF5F129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0AFF8-CADE-4C25-999E-EB98DC14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00FDF-72F5-4871-9410-2CE7B992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3756-24E3-413A-94CF-8F07B71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36439-A369-4C70-A619-EE8FF24D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F878-C2FF-45CB-98C8-CD377ADD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C2506-4580-483C-9FCC-8C7FCF59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B7D-C6ED-4BB7-BAE6-39437A4F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D71C3-1E99-4717-BCC0-4131972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C6FF-28EA-4EEE-802F-C74A230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C6C57-03D7-465E-9770-0057E616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BCC75-93D5-47E0-989D-EF5A4722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B23C0-B4F8-4927-8651-F6E089E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EB767-AF41-4566-87B5-E3A231E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D625E-50DE-4EE2-89FA-458D7C2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C5D9C-14C1-41E9-927A-334F404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6843-D2F3-47F4-8769-02F0392A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DE61F-61F4-46D0-8142-816216EE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06D-2BA5-4DD9-86F0-19E89000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5240F-95E1-4F1C-99E6-9DBDFD9A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0ADED-8BEC-4DBF-A962-48F54132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72E8F-EFDB-4503-AFCF-CBE987A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7570C-ACF1-40B1-B8F0-8FF82F4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7A8E6-95F5-4383-AFBE-229CF93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B8FB4-B6B6-48C4-8813-AB5E8383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632A1-F07E-4D9E-9BD8-A4CD883E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7888-B0F5-4C0A-9BC2-DDD2D59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C753E-50EA-4D71-8FE3-05BEDA31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2CD6F-6158-40C9-AEB2-BB3B43A7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300A-CB80-405C-B2C6-FE565F3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BB3C-8963-4908-8C37-311E711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A3E4-7281-410B-8445-56C5FAC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D552E-F124-409E-B83C-12FB7F55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081F0-66F1-4A9C-B424-8F3AE768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3B35C-E955-473F-84B1-3B99D0A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188B1-C3AE-48EC-B0A9-03A445EE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562AF-1E01-401E-9037-D0EF28AB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5B0E9-8A25-4257-B00A-ACDABD4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FAACF-D612-4A94-89B3-11587F5D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39F52-5C19-498B-82AD-10AAA2E1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A2E-01D1-493A-BB36-5C6A62F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58806-C62F-4924-859C-6D35EF3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5DB41-0D1E-4804-8031-3B7DA505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8345-B354-45FB-B389-7E4B6DB6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4E40C-DCCC-49BD-A3CB-CC37C75E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22BE7-26C7-4C43-A9EE-C35CCE79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B03E-8369-45C2-A39E-969F4C3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0FA-3A67-49C9-84C5-A9A83D8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1DFD-5F58-45A9-BA25-20D3B46B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9991-D5D9-405E-8BAB-5F091BF0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B4B9-DD44-4684-8D66-DA9CE54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77A-C052-45B7-9EC4-FD414C5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EB43-5290-49E1-A781-2B9B2682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DA83-6289-4CD3-992C-6CD2719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FBC8-AD41-4C72-B53A-A11EE54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5891-FCC6-4958-BF29-DCC0BFDD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9C3B-3296-45CC-954A-2507E6CE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7CD2-4292-4E62-9FC3-04C44645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7460-4D6F-4A0E-A743-42DBC5F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FEE4-AFF2-4D1A-8431-C6366A0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551C-64A6-45B3-8FAB-0BBDBA36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9665-BA0C-4BE1-903A-97E1E8BE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F39-E4BB-422B-BC39-8ABF35D1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94D7A-E727-455B-AE31-FBBA2CC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91B8-6F51-4922-A515-FC72DD6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D041-A448-48A8-B33F-773819B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DBB1E-158D-4BA4-85C4-5822A9A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4AFC-27A6-4B32-BFA6-4583CDC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9712-204E-43B2-9667-16F1B804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EE4EE-C087-472E-BE13-6FECE889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F750-7A46-4CD2-9419-F68776D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8EDC-FE05-4F35-BDB7-FB14903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7425-4A00-4A5B-BF38-A0446BDD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531-9A09-4B43-9F58-86FCFE8E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71C1C-2247-4A1B-9C59-0256964F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CE7E-0818-4375-A3B5-7480F09C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7DFA-B8FE-4C2F-8FC2-4C56A3B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849A-0D5E-4758-ABD1-BDB43F5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33FD-2C98-4B95-B13D-135C5AD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7522-1560-48E0-B9BE-CF3CCCEB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3883-1F86-40C2-9CEB-BAC5ED1B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FBAD-219E-4302-B065-1434815A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81C3-498E-48D6-AA26-5CAE84A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1F79-38F6-48A9-9D5B-A35214E4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251-2A41-4D34-98AA-5414730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C9A00-B4D4-41E9-BE0E-24DEC59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DEB5-F91F-4F64-977A-B89F0083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2ACBA-C8C5-4562-B169-2FB107F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1D51B-74E1-4E2F-A6D3-8860C2C4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3D4D-E072-4082-BE58-2103401F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B658-F8B6-41AC-82A0-BD905E3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07E9-2301-4277-832F-9245DBC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EB4EA-EB3C-4C4D-824F-4C4CB295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B976-4E06-463C-9E92-0F9DD0E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D82E-34AA-43CE-865D-A06C246E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076D-ADB8-4294-B094-6120C8A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D7E8-09EA-42A2-BC7B-8194B6FD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4476-5449-4BCE-8E29-50650859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7881-55CF-4C82-9CD8-4AB2401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CD176-D8C7-4FB6-A73B-0E6C20C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363F-CF16-493D-8FB2-4A5533B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EA4C-8308-4890-9F1B-D58CEA9A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C3BAE-857C-408A-BFA8-682199D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0AB6C-13FA-48FB-A84A-A09DF6E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FAC4-C78B-4C57-B76D-172AE30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9A9B4-9294-4362-8C22-5717B88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86C-0E64-4AC7-AA02-DCFC135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B11E-978D-4C97-A63A-8969B509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D5BC-7DC3-4F97-B00C-78140062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CC9AF-6E68-47CA-B741-B81CDCE8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B023-7C46-4524-B700-C14F5139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E56B-512B-45D8-9ABC-BA166EC2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CCFB5-DEC3-4E27-8C33-36947AF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FAB6-AF02-463B-914D-53C11F1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E8B43-EEC7-4EB7-B7B4-B820F8D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12A0-438F-4244-92DA-522566B1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DD672-E51D-42BF-976B-BFBC4AE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EEC-9A56-4CE4-896B-4145303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CEFB5-24A7-45AC-B81F-48287C6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40A82-7EB4-41BE-B1DB-1468A51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E979-D41C-4597-91B1-855C31E3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19BB-E00D-44E7-97B2-CEEB382D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E6109-C6AE-42DD-AD50-99D4AAA3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7276-58EA-4424-9C10-BCC8B859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A8A75-5A1A-4586-B26B-6B0C27E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E2033-B042-4D19-9607-397F3CE0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DF359-3B27-4787-8934-B39BD82E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194C-B777-4292-BB2C-B171366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231-95E9-446A-92E3-191BD9C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D9E1-3857-49E9-B2D9-8AE27D49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7B2B-F2D8-4A9C-96DC-D4435D9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CB52-7793-4B1C-967A-9774EE7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81A1-3864-4CBC-A8AF-584857A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E5A5D-B12B-4A3A-948E-601E7234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8B81-365B-4F2B-8C16-D2D7BB8B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BC16-E373-46A3-A778-AFF31D2A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BDBE-DADB-45CB-9212-902A7D3A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2A7DA-F270-4221-83AC-5A270F6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B1AE4-F87A-4958-AD6C-62FC1E5C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45B-53D4-4801-A9D9-78A35810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EE60-A0AD-4A1F-9FBA-8F1184665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D036-84A1-4F63-97C3-22D8EED1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ED99-C202-4051-8F37-9E8D8055B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C65-CABB-4D11-A459-AA1BD824E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9F3-B6C9-4BE6-A4F1-80FFEA20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018-515F-477D-A719-42B2689AB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082-6D5B-4E49-92D7-F8995485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6D2-2D3B-4159-A2A0-63E7463D8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E691-4DA3-4709-AB38-2A0700C5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7F87-90EA-4A86-9A34-CE6AC4F66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65F-3CC5-4E60-971D-1490712B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Eastern States and Capit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st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e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es from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sac of toys fo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Freeform 7"/>
          <p:cNvSpPr/>
          <p:nvPr/>
        </p:nvSpPr>
        <p:spPr>
          <a:xfrm rot="20349000">
            <a:off x="5343480" y="3259080"/>
            <a:ext cx="88416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orth Carolina, Raleig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hig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Mitten grabb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Freeform 7"/>
          <p:cNvSpPr/>
          <p:nvPr/>
        </p:nvSpPr>
        <p:spPr>
          <a:xfrm>
            <a:off x="4572000" y="2057400"/>
            <a:ext cx="808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324480" y="4038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chigan, Lan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4800600" y="2666880"/>
            <a:ext cx="4572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6400800" y="2895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Giv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6248520" y="4038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ndiana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sa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“O Hi O” to Columbus’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Freeform 9"/>
          <p:cNvSpPr/>
          <p:nvPr/>
        </p:nvSpPr>
        <p:spPr>
          <a:xfrm>
            <a:off x="5105520" y="2590920"/>
            <a:ext cx="53316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400800" y="3657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Ohio, Colum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5"/>
          <p:cNvSpPr/>
          <p:nvPr/>
        </p:nvSpPr>
        <p:spPr>
          <a:xfrm>
            <a:off x="62485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rida’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il is Sass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Freeform 7"/>
          <p:cNvSpPr/>
          <p:nvPr/>
        </p:nvSpPr>
        <p:spPr>
          <a:xfrm rot="19281600">
            <a:off x="5279760" y="3949200"/>
            <a:ext cx="685800" cy="11858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400800" y="2590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lorida, Tallahass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Freeform 7"/>
          <p:cNvSpPr/>
          <p:nvPr/>
        </p:nvSpPr>
        <p:spPr>
          <a:xfrm>
            <a:off x="4203720" y="2162160"/>
            <a:ext cx="774720" cy="628560"/>
          </a:xfrm>
          <a:custGeom>
            <a:avLst/>
            <a:gdLst/>
            <a:ahLst/>
            <a:rect l="l" t="t" r="r" b="b"/>
            <a:pathLst>
              <a:path w="488" h="396">
                <a:moveTo>
                  <a:pt x="461" y="311"/>
                </a:moveTo>
                <a:cubicBezTo>
                  <a:pt x="449" y="266"/>
                  <a:pt x="438" y="235"/>
                  <a:pt x="406" y="201"/>
                </a:cubicBezTo>
                <a:cubicBezTo>
                  <a:pt x="388" y="148"/>
                  <a:pt x="392" y="84"/>
                  <a:pt x="333" y="64"/>
                </a:cubicBezTo>
                <a:cubicBezTo>
                  <a:pt x="293" y="26"/>
                  <a:pt x="230" y="19"/>
                  <a:pt x="177" y="9"/>
                </a:cubicBezTo>
                <a:cubicBezTo>
                  <a:pt x="137" y="13"/>
                  <a:pt x="87" y="0"/>
                  <a:pt x="58" y="28"/>
                </a:cubicBezTo>
                <a:cubicBezTo>
                  <a:pt x="43" y="42"/>
                  <a:pt x="42" y="66"/>
                  <a:pt x="31" y="83"/>
                </a:cubicBezTo>
                <a:cubicBezTo>
                  <a:pt x="35" y="165"/>
                  <a:pt x="0" y="265"/>
                  <a:pt x="86" y="293"/>
                </a:cubicBezTo>
                <a:cubicBezTo>
                  <a:pt x="106" y="375"/>
                  <a:pt x="96" y="342"/>
                  <a:pt x="113" y="393"/>
                </a:cubicBezTo>
                <a:cubicBezTo>
                  <a:pt x="235" y="390"/>
                  <a:pt x="358" y="396"/>
                  <a:pt x="479" y="384"/>
                </a:cubicBezTo>
                <a:cubicBezTo>
                  <a:pt x="488" y="383"/>
                  <a:pt x="488" y="231"/>
                  <a:pt x="461" y="311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629400" y="19051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MIMAL get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si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6246720" y="385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isconsin, Mad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e Simpson upside down yelling about al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ringfi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4495680" y="2666880"/>
            <a:ext cx="511200" cy="8366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324480" y="42670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llinois, Springfie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248520" y="2666880"/>
            <a:ext cx="2514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is best eaten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’s F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t h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 rot="20632800">
            <a:off x="4734000" y="3119400"/>
            <a:ext cx="82692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858000" y="4724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Kentucky, Frankf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6248520" y="26668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pla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n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v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n C’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7"/>
          <p:cNvSpPr/>
          <p:nvPr/>
        </p:nvSpPr>
        <p:spPr>
          <a:xfrm rot="20781600">
            <a:off x="4648320" y="3352320"/>
            <a:ext cx="990360" cy="4557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934320" y="5181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ennessee, Nashvil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ack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ses his Sip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4572000" y="3657600"/>
            <a:ext cx="533520" cy="9129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248520" y="4191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ississippi, Jack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6248520" y="3505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nt Gum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Alab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7"/>
          <p:cNvSpPr/>
          <p:nvPr/>
        </p:nvSpPr>
        <p:spPr>
          <a:xfrm>
            <a:off x="4876920" y="3657600"/>
            <a:ext cx="53316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6705720" y="2286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labama, Montgom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see her diamo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7"/>
          <p:cNvSpPr/>
          <p:nvPr/>
        </p:nvSpPr>
        <p:spPr>
          <a:xfrm>
            <a:off x="5257800" y="3581280"/>
            <a:ext cx="53352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640080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Georgia, Atla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u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ol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ways wears he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um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‘carrot’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7"/>
          <p:cNvSpPr/>
          <p:nvPr/>
        </p:nvSpPr>
        <p:spPr>
          <a:xfrm rot="20458200">
            <a:off x="5410080" y="3429000"/>
            <a:ext cx="601920" cy="609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6248520" y="4114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outh Carolina, Columb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6-10-07T15:58:43Z</dcterms:modified>
  <cp:revision>39</cp:revision>
  <dc:subject/>
  <dc:title>United States</dc:title>
</cp:coreProperties>
</file>