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556-7FDA-46E3-952B-FA0A36F4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D19-4B5D-4C22-9AD8-9AD1AA84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F118A-1577-4433-A81D-EE5EA7B9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FC840-686F-47BD-A293-5A3583DE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A2A46-4F31-412A-9A07-34968FA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676E7-7380-49A1-9D5E-CCEE484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DDFDF-EA97-4218-99D6-4E197B0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E0238-3049-4670-BDC8-1B5B6CEB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E8D35-A2D7-443B-B291-E6BE3202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0EE33-B805-4CB0-9B91-CEFAA472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EDD4E-1FB4-4A3E-A0EF-7E04C293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D7779-268D-46F5-8157-BC1594A3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E7A-6203-4017-BD0E-484D7DAB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63F54-D004-4AF7-A080-5BF30A0E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90AF7-C070-4B90-B50D-F020DE45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D09BE-F751-4A89-948B-FFE5E827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4327-9EAB-4F2F-8F58-E0CD5E96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F7DD1-DE8E-4385-9791-E142B94A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76A86-20CB-44D2-91FB-E8DEC327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55387-AE53-4279-85F6-2A8400B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15392-B3CE-40BE-87C5-7D411E72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D885D-B634-42D6-82AE-9051BC12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B3440-89F8-4366-97D3-08DE6606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E24-B70F-487D-86D4-14E87902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785D0-C756-4B46-B591-5A7B400D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06630-146D-4AC3-B57C-22F0A962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D0EBA-95CC-4468-A408-4BAC5731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8E844-ED0E-4882-BC37-2D559AB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C119A-1FF9-4C07-84BC-73BF11BB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9F1D3-32A5-435D-96F3-1323E8AD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5DB7F-5455-4386-8DF1-42869520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9E533-AF12-49E5-89D6-2D6A644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4CE63-DDA7-44A7-8B30-D224F9F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F2CD9-0878-4088-A6EC-74BDB99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BBE4-243E-4C12-85BD-2D3D973F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E05FA-8561-4C42-99E8-B2DD3509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9F5A1-C80E-4F28-8C9B-0061AF3A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1E19E-45C1-498E-9F23-2F461354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D9610-EEB7-495F-BB62-C825B065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23C58-87FE-4F64-AAE6-06FAA558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709C8-1AA3-40A9-BF01-EB269CAA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0EF06-C8A7-4DD6-BD36-C5509892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9CB18-7AF3-4EB5-9E20-52E465BA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8E6A3-A73B-4C30-B4E8-169144D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F150E-BF53-4C4E-BD50-7FBA85B8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EB67-3B6F-4D7E-A16C-5B877F6E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3D799-39CE-479F-8B54-24270DC0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514A8-05DF-47CA-850C-088F34B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7D549-470B-463E-8696-EDC45ADD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A68EC-118E-4B61-B805-E30DCC87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EAA79-2790-45A8-9679-221109A5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10F1-43AA-490F-8D27-6905D5B6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DB15-5CA0-46BD-A064-901314F5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5E37-0688-4909-839D-D6900199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DE33-3B06-4D2C-A539-682BE419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0014-7708-4768-BCA3-6B6B8740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87D-5D30-4E32-93EB-AEF9F9AB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54E6-74E6-4D84-AC00-74A87B7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18CA-E5BA-4D73-885C-8CA4AB4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B0B1-4C15-40F8-B5C8-FA17337F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F7C4-08EB-45B8-9782-716B8569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6328-D0CF-44D3-B867-BB567229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CF16-B7CB-4F0B-A0E4-B550A594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CB25-5266-4C02-A22A-5FBDDCF0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58F7-4D90-42DA-89D8-F927F3D3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56AF-35FA-409B-BADB-0619A939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B7AB-2710-45DD-938D-2F404338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B81-55DD-4F2C-BDF6-3C03245C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1B33-CE1A-4E66-A04C-C5C91A7B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726F-1DBD-4F3B-8E44-209C4FB3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EA1F-DF92-4E03-BC9B-BACFAC6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7FA3-79EF-4C2F-85C7-5F3946D4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BA50-61BA-4AC9-B98C-986DC10C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633E-0B3A-4755-B3BB-67576F3F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7835-F178-4627-9DAF-DC983B02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12C23-C9E2-45D4-A9E8-19105906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EFF0-DE5F-4EF1-9E01-4AF4937E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84CD9-FF30-42F6-AFE8-7BCB9D9A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D33-85CA-406F-BE3A-A33A7BBA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A4E8-5A36-47A3-97ED-52F2C168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CCED-25B7-4181-9289-98D9F444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725E-6DF4-4689-9320-055D9DB5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11CF-0C33-48CB-9827-8B7A491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6086-F4CA-4012-BA5E-4AE76D57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795D-D7AF-4896-A55F-B69CC030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28E9-B55B-4BCA-A1E1-364A35C9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ADF0-504D-4E2D-89B5-204CA615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2CF95-4A30-4557-82A7-51A3318D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4E0FB-D7DD-4D9B-8E34-D0616B5F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AAB-FFC3-4F47-9657-B429F779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86F8-167F-4CFE-BE9F-38358C0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8291-7200-46C8-94E6-8508C275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ADB84-2849-46D7-B452-C0E91DC5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0AF3B-A5BF-480E-8D6F-C5610EA5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53C7-3D3B-46B2-AF07-CFBDF40D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AE212-2F67-4A37-9C84-4580EF9F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83D88-3FA4-49A3-9060-821B8048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56002-76EF-4693-B43D-4FE2CD6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A70F-005C-4CCB-960F-CBDF96D3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35DF5-4DB7-4A5B-9725-FB6AA391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F65-018B-43CD-AAE1-1C3D7647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9955B-B897-4BC3-A807-8A3AA1F5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AC321-34E8-4DED-98C6-F15A0EE2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FA77-890D-4202-87A0-691C63E8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D00D2-DA25-47BC-A525-8ADBF33D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B65C1-B5D4-44B8-96A7-3268110D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61A4-E629-47D6-A7BF-22BC7B35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EAD0-ABA5-4E04-810C-C4381AA6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02592-5F39-423C-9304-E56ACAC9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5D6B4-10A2-4623-B2D7-813E86D7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A52C9-BBA2-484E-9CA4-B94F5FDE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B4F-30E7-4537-8BF1-508A3FD6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3D22-0661-4058-B18A-171C1CF0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70D71-5150-4918-BDA3-AAF7F298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68912-335B-4649-B6C8-EEB887C1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F4A08-FC59-45C0-9ADC-124A2CC3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A438-23F9-4A83-9165-3C1D5FEB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5BF2E-2220-4BD8-98DA-CF0805CD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D008F-4E0F-4DE7-8C61-6653172B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7ED3B-051E-42F7-AE89-7F927FEF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E4C98-B05F-4E26-9328-7D6D310B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208E5-4E5E-44CF-A822-7AB94AE7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EEA-3B85-4D8D-846F-3056FB6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5FFA2-329B-405C-91BB-2EE7FB4F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0A6A6-5061-4C99-A71B-46B7B857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DCBC-0D03-4468-9544-75281FCA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23951-35D7-4E77-AE9E-AC08DE0F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81AE-793F-4B88-B503-762D3752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17E1B-9E38-4DA1-82AE-773B0BE8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EAA3-F342-4F1F-9423-777F3688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F0470-5FD8-402B-97B6-EFE20D7F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EC165-3F93-4860-868F-AA778AF5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35685-CF86-45C5-846A-0FD18E10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B98-FC7A-4EF9-A73C-3DDEE71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FAFFF-9832-4BAD-969F-4EBECFF3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6D7C8-19C7-41FD-8629-33C2E96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2158D-8825-489E-83F3-426E122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EFA9C-B64A-40BE-85ED-89A2E70E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24546-BFE8-446D-941D-ACF80692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676FC-8AEA-45A6-8039-2F1B596C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20FC9-26AD-465E-B062-40E0ADD8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DFFFF-AC44-4C69-B6EE-2A2DA099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A805A-E448-4073-9E35-7DC16EE8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50EA9-382A-452F-91FD-84417327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83B1-2AC3-4123-BA88-F613D109D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7EC8-4802-4C84-ACD4-E8873A01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EFAB-7D21-4729-9839-EA3586E8D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2DB6-3B83-4259-883F-A37653CED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BFC3-0277-4433-82D0-172B3A007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EC42-F659-4694-8A33-CAB51EFB3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D08E-32F7-433A-A2A0-1BC1A8A0E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24DE-B779-4F22-BA6E-A2797A22E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CA8D-3FDA-4AF2-9738-7B6D44340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863D-79B9-4800-978C-E6B0662CD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1333-DD52-449D-9573-68DDBEC43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4831-47D4-4765-B0C2-2622318FB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Eastern States and Capit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e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es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sac of toys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reeform 7"/>
          <p:cNvSpPr/>
          <p:nvPr/>
        </p:nvSpPr>
        <p:spPr>
          <a:xfrm rot="20349000">
            <a:off x="5343480" y="3259080"/>
            <a:ext cx="88416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orth Carolina, Ralei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Mitten grabb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Freeform 7"/>
          <p:cNvSpPr/>
          <p:nvPr/>
        </p:nvSpPr>
        <p:spPr>
          <a:xfrm>
            <a:off x="4572000" y="2057400"/>
            <a:ext cx="808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24480" y="4038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chigan, Lan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4800600" y="2666880"/>
            <a:ext cx="457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64008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G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624852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ndiana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“O Hi O” to Columbus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Freeform 9"/>
          <p:cNvSpPr/>
          <p:nvPr/>
        </p:nvSpPr>
        <p:spPr>
          <a:xfrm>
            <a:off x="5105520" y="2590920"/>
            <a:ext cx="53316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6400800" y="3657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Ohio, Colum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2485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il is Sas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Freeform 7"/>
          <p:cNvSpPr/>
          <p:nvPr/>
        </p:nvSpPr>
        <p:spPr>
          <a:xfrm rot="19281600">
            <a:off x="5279760" y="3949200"/>
            <a:ext cx="685800" cy="11858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400800" y="2590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lorida, Tallahas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Freeform 7"/>
          <p:cNvSpPr/>
          <p:nvPr/>
        </p:nvSpPr>
        <p:spPr>
          <a:xfrm>
            <a:off x="4203720" y="2162160"/>
            <a:ext cx="774720" cy="628560"/>
          </a:xfrm>
          <a:custGeom>
            <a:avLst/>
            <a:gdLst/>
            <a:ahLst/>
            <a:rect l="l" t="t" r="r" b="b"/>
            <a:pathLst>
              <a:path w="488" h="396">
                <a:moveTo>
                  <a:pt x="461" y="311"/>
                </a:moveTo>
                <a:cubicBezTo>
                  <a:pt x="449" y="266"/>
                  <a:pt x="438" y="235"/>
                  <a:pt x="406" y="201"/>
                </a:cubicBezTo>
                <a:cubicBezTo>
                  <a:pt x="388" y="148"/>
                  <a:pt x="392" y="84"/>
                  <a:pt x="333" y="64"/>
                </a:cubicBezTo>
                <a:cubicBezTo>
                  <a:pt x="293" y="26"/>
                  <a:pt x="230" y="19"/>
                  <a:pt x="177" y="9"/>
                </a:cubicBezTo>
                <a:cubicBezTo>
                  <a:pt x="137" y="13"/>
                  <a:pt x="87" y="0"/>
                  <a:pt x="58" y="28"/>
                </a:cubicBezTo>
                <a:cubicBezTo>
                  <a:pt x="43" y="42"/>
                  <a:pt x="42" y="66"/>
                  <a:pt x="31" y="83"/>
                </a:cubicBezTo>
                <a:cubicBezTo>
                  <a:pt x="35" y="165"/>
                  <a:pt x="0" y="265"/>
                  <a:pt x="86" y="293"/>
                </a:cubicBezTo>
                <a:cubicBezTo>
                  <a:pt x="106" y="375"/>
                  <a:pt x="96" y="342"/>
                  <a:pt x="113" y="393"/>
                </a:cubicBezTo>
                <a:cubicBezTo>
                  <a:pt x="235" y="390"/>
                  <a:pt x="358" y="396"/>
                  <a:pt x="479" y="384"/>
                </a:cubicBezTo>
                <a:cubicBezTo>
                  <a:pt x="488" y="383"/>
                  <a:pt x="488" y="231"/>
                  <a:pt x="461" y="311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29400" y="1905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IMAL get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si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246720" y="385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isconsin, Mad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 Simpson upside down yelling about al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4495680" y="2666880"/>
            <a:ext cx="511200" cy="8366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324480" y="42670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llinois, Springfie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248520" y="26668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is best eaten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’s 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t h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 rot="20632800">
            <a:off x="4734000" y="3119400"/>
            <a:ext cx="82692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858000" y="472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Kentucky, Frank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6248520" y="26668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v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 C’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7"/>
          <p:cNvSpPr/>
          <p:nvPr/>
        </p:nvSpPr>
        <p:spPr>
          <a:xfrm rot="20781600">
            <a:off x="4648320" y="3352320"/>
            <a:ext cx="990360" cy="4557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934320" y="5181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ennessee, Nashvi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ck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es his Si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4572000" y="3657600"/>
            <a:ext cx="533520" cy="9129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248520" y="4191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ssissippi, Jack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6248520" y="3505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 Gum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Alab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7"/>
          <p:cNvSpPr/>
          <p:nvPr/>
        </p:nvSpPr>
        <p:spPr>
          <a:xfrm>
            <a:off x="4876920" y="3657600"/>
            <a:ext cx="53316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6705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labama, Montgom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see her diamo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7"/>
          <p:cNvSpPr/>
          <p:nvPr/>
        </p:nvSpPr>
        <p:spPr>
          <a:xfrm>
            <a:off x="5257800" y="3581280"/>
            <a:ext cx="53352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640080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Georgia, Atla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u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ways wears 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um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carrot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7"/>
          <p:cNvSpPr/>
          <p:nvPr/>
        </p:nvSpPr>
        <p:spPr>
          <a:xfrm rot="20458200">
            <a:off x="5410080" y="3429000"/>
            <a:ext cx="60192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6248520" y="4114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outh Carolina, Colu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6-10-07T15:58:43Z</dcterms:modified>
  <cp:revision>39</cp:revision>
  <dc:subject/>
  <dc:title>United States</dc:title>
</cp:coreProperties>
</file>