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1B61-D620-4D2D-8BD3-59B2842C1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83BC-492B-4A08-8F09-979DB4981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960F-0187-47CC-9055-A3260F27B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F84E-1F1C-408A-87C6-7643613F3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D73F2-54C1-43AF-9FDC-D1105976D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30112-A0DF-401B-B678-534373B9A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899D8-D7C8-498D-98B2-C96A9B0C5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27E89-FA69-495A-BA5D-7D8F574AB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4425E-9F43-48EC-AB00-0DB579A6E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BBEFA-A8C1-4B88-8907-A65719CBE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DB0F4-F509-4632-B73D-D37E3FFC7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DBB6-86DF-4AC4-8185-C48E0CE3B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BAA6E-C92F-438A-8762-DDE5A7362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FC1CB-3755-4D0B-8CA9-F3DFCD350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5D36C-850A-4C07-9DB5-625C4CDE1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E5A75-38BA-4565-92EF-D47E677F0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5E8D6-BAA7-4949-905B-02BA8DDE2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9F68-8445-48DC-B28B-714FCBE66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DE9C-4CE9-4AD1-828A-C9D814B77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DD0E-7F53-49DF-A104-12312B2F5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ACA5-AF54-485C-A805-5876A00DC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A480-1ED7-496E-BF80-841E1EC3F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7204-BFD9-4961-8140-7F87C78A8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8DBD-86D9-4291-BA31-8419AFD2C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9C241-923C-4767-86D5-C6993D888A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0E4E8-4C66-431C-80A8-1F0F04832C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United States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1 Midwest States and Capital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6248520" y="26668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n Handle sta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Freeform 6"/>
          <p:cNvSpPr/>
          <p:nvPr/>
        </p:nvSpPr>
        <p:spPr>
          <a:xfrm>
            <a:off x="3276720" y="3429000"/>
            <a:ext cx="1143000" cy="76212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TextBox 6"/>
          <p:cNvSpPr/>
          <p:nvPr/>
        </p:nvSpPr>
        <p:spPr>
          <a:xfrm>
            <a:off x="6248520" y="42670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klahoma, Oklahoma Cit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5"/>
          <p:cNvSpPr/>
          <p:nvPr/>
        </p:nvSpPr>
        <p:spPr>
          <a:xfrm>
            <a:off x="6248520" y="266688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put a 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K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of soup in the pan.  He wanted 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o Pee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at the soup in the pa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Freeform 6"/>
          <p:cNvSpPr/>
          <p:nvPr/>
        </p:nvSpPr>
        <p:spPr>
          <a:xfrm>
            <a:off x="3276720" y="2971800"/>
            <a:ext cx="1143000" cy="76212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TextBox 6"/>
          <p:cNvSpPr/>
          <p:nvPr/>
        </p:nvSpPr>
        <p:spPr>
          <a:xfrm>
            <a:off x="6248520" y="4267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ansas, Topek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3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5"/>
          <p:cNvSpPr/>
          <p:nvPr/>
        </p:nvSpPr>
        <p:spPr>
          <a:xfrm>
            <a:off x="6248520" y="266688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n shaped state / president shot.  Lincoln in the state of Nebrask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Freeform 6"/>
          <p:cNvSpPr/>
          <p:nvPr/>
        </p:nvSpPr>
        <p:spPr>
          <a:xfrm>
            <a:off x="3200400" y="2666880"/>
            <a:ext cx="1066680" cy="68580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TextBox 6"/>
          <p:cNvSpPr/>
          <p:nvPr/>
        </p:nvSpPr>
        <p:spPr>
          <a:xfrm>
            <a:off x="6248520" y="42670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braska, Lincol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5"/>
          <p:cNvSpPr/>
          <p:nvPr/>
        </p:nvSpPr>
        <p:spPr>
          <a:xfrm>
            <a:off x="6248520" y="266688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he was shot, he wa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 thirsty.  He asked for 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ier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wate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Freeform 6"/>
          <p:cNvSpPr/>
          <p:nvPr/>
        </p:nvSpPr>
        <p:spPr>
          <a:xfrm>
            <a:off x="3124080" y="2286000"/>
            <a:ext cx="1067040" cy="68580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TextBox 6"/>
          <p:cNvSpPr/>
          <p:nvPr/>
        </p:nvSpPr>
        <p:spPr>
          <a:xfrm>
            <a:off x="6248520" y="42670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outh Dakota, Pier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6248520" y="266688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bt he was hungry as well.  Asked for pancakes made from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isqui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Freeform 6"/>
          <p:cNvSpPr/>
          <p:nvPr/>
        </p:nvSpPr>
        <p:spPr>
          <a:xfrm>
            <a:off x="3124080" y="1828800"/>
            <a:ext cx="1067040" cy="68580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6248520" y="42670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orth Dakota, Bismarc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101" name="Freeform 7"/>
          <p:cNvSpPr/>
          <p:nvPr/>
        </p:nvSpPr>
        <p:spPr>
          <a:xfrm>
            <a:off x="3657600" y="1828800"/>
            <a:ext cx="1498680" cy="2995560"/>
          </a:xfrm>
          <a:custGeom>
            <a:avLst/>
            <a:gdLst/>
            <a:ahLst/>
            <a:rect l="l" t="t" r="r" b="b"/>
            <a:pathLst>
              <a:path w="944" h="1887">
                <a:moveTo>
                  <a:pt x="112" y="0"/>
                </a:moveTo>
                <a:cubicBezTo>
                  <a:pt x="106" y="74"/>
                  <a:pt x="103" y="147"/>
                  <a:pt x="85" y="219"/>
                </a:cubicBezTo>
                <a:cubicBezTo>
                  <a:pt x="86" y="293"/>
                  <a:pt x="0" y="717"/>
                  <a:pt x="158" y="768"/>
                </a:cubicBezTo>
                <a:cubicBezTo>
                  <a:pt x="165" y="825"/>
                  <a:pt x="176" y="869"/>
                  <a:pt x="194" y="923"/>
                </a:cubicBezTo>
                <a:cubicBezTo>
                  <a:pt x="197" y="932"/>
                  <a:pt x="213" y="929"/>
                  <a:pt x="222" y="932"/>
                </a:cubicBezTo>
                <a:cubicBezTo>
                  <a:pt x="228" y="951"/>
                  <a:pt x="244" y="967"/>
                  <a:pt x="249" y="987"/>
                </a:cubicBezTo>
                <a:cubicBezTo>
                  <a:pt x="262" y="1040"/>
                  <a:pt x="259" y="1075"/>
                  <a:pt x="277" y="1124"/>
                </a:cubicBezTo>
                <a:cubicBezTo>
                  <a:pt x="280" y="1338"/>
                  <a:pt x="128" y="1696"/>
                  <a:pt x="331" y="1764"/>
                </a:cubicBezTo>
                <a:cubicBezTo>
                  <a:pt x="370" y="1803"/>
                  <a:pt x="399" y="1811"/>
                  <a:pt x="450" y="1828"/>
                </a:cubicBezTo>
                <a:cubicBezTo>
                  <a:pt x="593" y="1825"/>
                  <a:pt x="754" y="1887"/>
                  <a:pt x="880" y="1819"/>
                </a:cubicBezTo>
                <a:cubicBezTo>
                  <a:pt x="944" y="1784"/>
                  <a:pt x="876" y="1673"/>
                  <a:pt x="871" y="1600"/>
                </a:cubicBezTo>
                <a:cubicBezTo>
                  <a:pt x="867" y="1549"/>
                  <a:pt x="797" y="1503"/>
                  <a:pt x="779" y="1453"/>
                </a:cubicBezTo>
                <a:cubicBezTo>
                  <a:pt x="786" y="1330"/>
                  <a:pt x="767" y="1269"/>
                  <a:pt x="843" y="1188"/>
                </a:cubicBezTo>
                <a:cubicBezTo>
                  <a:pt x="837" y="1038"/>
                  <a:pt x="864" y="976"/>
                  <a:pt x="770" y="887"/>
                </a:cubicBezTo>
                <a:cubicBezTo>
                  <a:pt x="749" y="824"/>
                  <a:pt x="765" y="846"/>
                  <a:pt x="734" y="813"/>
                </a:cubicBezTo>
                <a:cubicBezTo>
                  <a:pt x="714" y="757"/>
                  <a:pt x="690" y="699"/>
                  <a:pt x="679" y="640"/>
                </a:cubicBezTo>
                <a:cubicBezTo>
                  <a:pt x="663" y="552"/>
                  <a:pt x="668" y="491"/>
                  <a:pt x="587" y="439"/>
                </a:cubicBezTo>
                <a:cubicBezTo>
                  <a:pt x="553" y="334"/>
                  <a:pt x="568" y="403"/>
                  <a:pt x="578" y="228"/>
                </a:cubicBezTo>
                <a:cubicBezTo>
                  <a:pt x="574" y="179"/>
                  <a:pt x="595" y="117"/>
                  <a:pt x="560" y="82"/>
                </a:cubicBezTo>
                <a:cubicBezTo>
                  <a:pt x="553" y="75"/>
                  <a:pt x="542" y="77"/>
                  <a:pt x="533" y="73"/>
                </a:cubicBezTo>
                <a:cubicBezTo>
                  <a:pt x="428" y="21"/>
                  <a:pt x="416" y="34"/>
                  <a:pt x="258" y="27"/>
                </a:cubicBezTo>
                <a:cubicBezTo>
                  <a:pt x="193" y="5"/>
                  <a:pt x="240" y="19"/>
                  <a:pt x="112" y="0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6629400" y="1752480"/>
            <a:ext cx="20574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 – innesot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– ow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 – issour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– rkans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- ousian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106" name="Freeform 7"/>
          <p:cNvSpPr/>
          <p:nvPr/>
        </p:nvSpPr>
        <p:spPr>
          <a:xfrm>
            <a:off x="3817800" y="1892160"/>
            <a:ext cx="841680" cy="938520"/>
          </a:xfrm>
          <a:custGeom>
            <a:avLst/>
            <a:gdLst/>
            <a:ahLst/>
            <a:rect l="l" t="t" r="r" b="b"/>
            <a:pathLst>
              <a:path w="530" h="591">
                <a:moveTo>
                  <a:pt x="411" y="280"/>
                </a:moveTo>
                <a:cubicBezTo>
                  <a:pt x="422" y="149"/>
                  <a:pt x="402" y="167"/>
                  <a:pt x="512" y="152"/>
                </a:cubicBezTo>
                <a:cubicBezTo>
                  <a:pt x="509" y="131"/>
                  <a:pt x="511" y="108"/>
                  <a:pt x="502" y="88"/>
                </a:cubicBezTo>
                <a:cubicBezTo>
                  <a:pt x="498" y="78"/>
                  <a:pt x="483" y="77"/>
                  <a:pt x="475" y="70"/>
                </a:cubicBezTo>
                <a:cubicBezTo>
                  <a:pt x="389" y="0"/>
                  <a:pt x="243" y="19"/>
                  <a:pt x="146" y="15"/>
                </a:cubicBezTo>
                <a:cubicBezTo>
                  <a:pt x="73" y="21"/>
                  <a:pt x="22" y="1"/>
                  <a:pt x="0" y="70"/>
                </a:cubicBezTo>
                <a:cubicBezTo>
                  <a:pt x="3" y="91"/>
                  <a:pt x="8" y="112"/>
                  <a:pt x="9" y="134"/>
                </a:cubicBezTo>
                <a:cubicBezTo>
                  <a:pt x="14" y="225"/>
                  <a:pt x="11" y="317"/>
                  <a:pt x="18" y="408"/>
                </a:cubicBezTo>
                <a:cubicBezTo>
                  <a:pt x="20" y="427"/>
                  <a:pt x="36" y="463"/>
                  <a:pt x="36" y="463"/>
                </a:cubicBezTo>
                <a:cubicBezTo>
                  <a:pt x="39" y="487"/>
                  <a:pt x="31" y="516"/>
                  <a:pt x="45" y="536"/>
                </a:cubicBezTo>
                <a:cubicBezTo>
                  <a:pt x="56" y="552"/>
                  <a:pt x="100" y="554"/>
                  <a:pt x="100" y="554"/>
                </a:cubicBezTo>
                <a:cubicBezTo>
                  <a:pt x="222" y="551"/>
                  <a:pt x="353" y="591"/>
                  <a:pt x="466" y="545"/>
                </a:cubicBezTo>
                <a:cubicBezTo>
                  <a:pt x="530" y="519"/>
                  <a:pt x="463" y="386"/>
                  <a:pt x="420" y="371"/>
                </a:cubicBezTo>
                <a:cubicBezTo>
                  <a:pt x="411" y="345"/>
                  <a:pt x="390" y="316"/>
                  <a:pt x="411" y="289"/>
                </a:cubicBezTo>
                <a:cubicBezTo>
                  <a:pt x="418" y="280"/>
                  <a:pt x="438" y="282"/>
                  <a:pt x="438" y="271"/>
                </a:cubicBezTo>
                <a:cubicBezTo>
                  <a:pt x="438" y="262"/>
                  <a:pt x="420" y="277"/>
                  <a:pt x="411" y="280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6629400" y="1981080"/>
            <a:ext cx="198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MAL is a 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a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and his name is 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au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.  He drinks 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inni Sod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TextBox 6"/>
          <p:cNvSpPr/>
          <p:nvPr/>
        </p:nvSpPr>
        <p:spPr>
          <a:xfrm>
            <a:off x="6248520" y="42670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innesota, St. Pau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6"/>
          <p:cNvSpPr/>
          <p:nvPr/>
        </p:nvSpPr>
        <p:spPr>
          <a:xfrm>
            <a:off x="6324480" y="2355840"/>
            <a:ext cx="2514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has a gambling problem –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 owe 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ow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e mone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 Des Moin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Freeform 7"/>
          <p:cNvSpPr/>
          <p:nvPr/>
        </p:nvSpPr>
        <p:spPr>
          <a:xfrm>
            <a:off x="3832200" y="2516040"/>
            <a:ext cx="884160" cy="69552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TextBox 6"/>
          <p:cNvSpPr/>
          <p:nvPr/>
        </p:nvSpPr>
        <p:spPr>
          <a:xfrm>
            <a:off x="6324480" y="440064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owa, Des Moin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5"/>
          <p:cNvSpPr/>
          <p:nvPr/>
        </p:nvSpPr>
        <p:spPr>
          <a:xfrm>
            <a:off x="6248520" y="266688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got in a fight with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Jeffers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hit in the stomach and is i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iser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Freeform 6"/>
          <p:cNvSpPr/>
          <p:nvPr/>
        </p:nvSpPr>
        <p:spPr>
          <a:xfrm>
            <a:off x="4038480" y="2971800"/>
            <a:ext cx="884520" cy="77148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6248520" y="42670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issouri, Jefferson Cit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6248520" y="2666880"/>
            <a:ext cx="25146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likes to collect thing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a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a 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ittle Roc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in his pocke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Freeform 6"/>
          <p:cNvSpPr/>
          <p:nvPr/>
        </p:nvSpPr>
        <p:spPr>
          <a:xfrm>
            <a:off x="4191120" y="3429000"/>
            <a:ext cx="685800" cy="77148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TextBox 6"/>
          <p:cNvSpPr/>
          <p:nvPr/>
        </p:nvSpPr>
        <p:spPr>
          <a:xfrm>
            <a:off x="6248520" y="42670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rkansas, Little Roc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5"/>
          <p:cNvSpPr/>
          <p:nvPr/>
        </p:nvSpPr>
        <p:spPr>
          <a:xfrm>
            <a:off x="6248520" y="26668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wears 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oose Boo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Freeform 6"/>
          <p:cNvSpPr/>
          <p:nvPr/>
        </p:nvSpPr>
        <p:spPr>
          <a:xfrm>
            <a:off x="4267080" y="3962520"/>
            <a:ext cx="685800" cy="77148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TextBox 6"/>
          <p:cNvSpPr/>
          <p:nvPr/>
        </p:nvSpPr>
        <p:spPr>
          <a:xfrm>
            <a:off x="6248520" y="42670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uisiana, Baton Roug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"/>
          <p:cNvSpPr/>
          <p:nvPr/>
        </p:nvSpPr>
        <p:spPr>
          <a:xfrm>
            <a:off x="6248520" y="26668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need to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ext Aust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Freeform 6"/>
          <p:cNvSpPr/>
          <p:nvPr/>
        </p:nvSpPr>
        <p:spPr>
          <a:xfrm>
            <a:off x="2743200" y="3505320"/>
            <a:ext cx="1905120" cy="167616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TextBox 6"/>
          <p:cNvSpPr/>
          <p:nvPr/>
        </p:nvSpPr>
        <p:spPr>
          <a:xfrm>
            <a:off x="6248520" y="4267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xas, Austi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0T13:35:24Z</dcterms:created>
  <dc:creator>Penn Cambria School District</dc:creator>
  <dc:description/>
  <dc:language>en-US</dc:language>
  <cp:lastModifiedBy>John Edgell</cp:lastModifiedBy>
  <cp:lastPrinted>2014-10-21T11:51:19Z</cp:lastPrinted>
  <dcterms:modified xsi:type="dcterms:W3CDTF">2016-10-20T13:00:50Z</dcterms:modified>
  <cp:revision>22</cp:revision>
  <dc:subject/>
  <dc:title>United States</dc:title>
</cp:coreProperties>
</file>