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2F03-7ACC-43E7-ACC9-087ADC2A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858-40C2-4373-A3AE-DDE6C1D3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27ED2-2279-4657-A618-5BA8D0C1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55A89-ED58-4B51-99DF-B5CEBFC7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A0C8B-61A6-4470-8D3E-EA1253F0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8F763-ECE9-4947-B005-F7213205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11D16-35C0-44CD-9EEE-651DD96E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D7689-0DA5-462B-B454-0845B644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2F486-D8C6-438A-B3B9-EB301763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04103-EA87-4EE1-AFF8-797109BF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A7769-2290-4D0D-BAE2-D3661E85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D577D-8462-4426-8A70-5611B43C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DC3B-9E86-47A7-A63D-964580B9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C8903-9A48-4353-B60F-F197FB3A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A5581-4ADC-4A88-8EE9-8127F024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BBFFC-152E-43CC-85D5-A7C838C3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BA930-D88E-4D76-9183-98620C02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0D9EA-5547-4212-AA9A-E343F84B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65398-91E1-4A29-930F-9102C35A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EE839-F87B-4372-A103-7184EDC7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D152F-E177-4FE9-99BD-9C5CAC08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E9611-3E65-4014-B8F7-92D5A305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4E409-5086-46D8-A8C7-84C1B110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0B8-1814-4A03-BC93-7A91B3B9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C572C-8DD9-40B8-B550-ACB29F56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06F14-68C4-45D4-8FF7-E883F450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424D9-A6EC-44CA-8B76-6D4353B2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BD5E5-3265-4BF3-9931-D0CFFF80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FB549-D3BD-4F6D-B9EF-9940B776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2597B-9B69-4366-BF6B-E75366CA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47A3F-6D0E-4F01-82E8-CBBE9EF9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8BB89-60FE-48DD-A7FA-12DAE78F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9E137-19A5-4535-BA0C-244D387A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EE3E3-D02B-421E-A3D7-76EF8582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547A-8D2F-4D5C-951F-E6278535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25329-9FE4-450A-A837-39CA3395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A38FA-5FF5-4B99-AA4F-E6CF0303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00088-B363-4105-8DBB-B3F45DD6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23B26-87BD-45D7-BA2D-F6420C30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87A67-68BB-4E25-B903-51F24793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1B591-2AD9-411B-8630-0C57FB9D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48805-A74B-4AFF-998F-B86379A8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A4688-1317-414B-90DB-7C4259D5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99C6C-2B59-41E9-81DC-CEC08C4F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B1656-2AC3-4299-A43D-0AEF29F8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ED67-8A9D-4F91-869B-6D6CAAD3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F99F3-7EEF-4AF2-8241-F7232E58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0D4A4-CCCC-4CC9-8313-A6FE35BC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8B0FD-DBB2-4B75-AF04-B0FD5CE2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C3AA4-02A2-4843-8F71-0466C36A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5D354-EC82-4C79-813F-80C3EB0A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6B77-D49E-4FEB-AB01-178C6AEB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9BFC-50E8-48AE-BE8B-7A36BAC7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8551-3125-4985-B57D-6DA994D9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AAEF-CE17-4357-B45C-E431658E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7E46-2BED-4D86-A666-C2868980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DCD9-71E3-4E15-B799-625F40A0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7B14-CDE4-49B8-9290-CFD91CB6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7FB9-8B99-4830-82B5-1D3A61D2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B78C-BA04-49D5-A7D4-1BDA4C84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652B-9966-471C-9C65-6B71BC09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0BDE-DA2C-4A4F-9DA7-2ACB6365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E9E21-D28E-4111-9A3D-53B6BE18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F6196-D40D-491E-9664-4B23EDBD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B71E4-75E5-4FD7-B05A-65FC84FB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A9CE5-2938-4B48-85A7-C2ABEE59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CB7E5-5F97-4FCF-B664-F6AAD836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74C-239B-423D-92E4-59555C99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2B0FC-D153-4A3A-A7E9-5E6CCE7B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642B8-9DA9-4D4A-B0DB-AC28D5A8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AECA1-3F87-4209-823C-3E5DE72F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77F2C-8B08-4DAF-B804-013ACBD5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FAB70-94FD-4F44-B59F-28660815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1E035-35D9-40B7-A790-82436E05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C0FC1-D0FE-4922-8F3C-3BC5F407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F0D5D-35E0-4911-A7CA-3E8CE8A7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9828D-DDEF-4901-9836-F4898BA9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65EB9-5824-4898-AF89-0CE11613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39E-641B-45EC-8B66-3C8EC243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B3BE0-2397-4E73-A0FE-CAE647C4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FC673-BDEF-4B27-AB64-5FB3D4F9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21776-38B7-4025-80FA-8610E766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FCDF7-4647-4C09-88FF-D374A6BB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C2FB7-C3D5-4DC7-870C-E75614FD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C0241-C69E-47EC-9FE0-8D16C5E6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2B25C-2719-4AE3-B0D7-EBC61A77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4DA47-9F42-40AF-A846-49CB11D5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CC1B7-4136-47B6-A05B-413BEB96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AAC24-BB6A-4E24-92C4-B76108BF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9D5B-2863-4C40-A9B4-10D2A495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3DE8C-3CD9-45C5-ADE0-545B1E57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A1DC6-9C0D-410F-AADA-8D98D281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169B8-89F3-4D1E-9F5B-F7315E07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6F21E-E209-4CCC-B6B1-A8F764C4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6F2AE-DA25-4624-BA1D-399C0F86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A8DF8-9DEE-4BED-BD6F-6630B615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EA3FD-281E-4B09-9E72-6C12DE03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02A46-41AC-4511-B7B5-2DF2FB7A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2BE17-CCE8-4805-9601-02733258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E39EB-BE2F-4418-853F-AC5C8330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F4A5-442A-4E03-85C7-9E8BA123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02F99-12CD-48BF-85F6-8CD58219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DB98F-0B5C-440C-845F-F17F9C94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873D0-F2AF-411F-B283-F9E313FB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6ADCA-29BA-4242-BB64-1B791A48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88938-7102-457F-A8E4-ACD7BD5A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C9C13-4366-45C3-9095-1860F041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99472-19AE-4863-B424-81D9A5A2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82F2E-5F79-4B95-83C6-4074BFBB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1439C-C37D-4C42-BBED-06624CBF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C6875-C765-44D1-9731-D5B96096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235-2082-49C0-AB6E-2F8AA243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E43D3-60B6-4BDC-A18E-6A572EBE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39013-423E-4B6E-BBF8-E52BB4A5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68DBE-D443-4F1C-9B7F-4CA8A809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D7251-1E2D-460B-83C3-B20B20BD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BB259-4C1B-4D79-B1C9-78CD0C8D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57A9D-D0BF-44D8-9743-94168C7A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28330-F588-461F-8E54-EA0FB3B4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D2529-E6EB-463E-9FB6-8E2FA520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EABF8-B2C3-415E-A3A2-A3F26589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C92BD-1F3F-4F5A-A23A-24FBEE89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669-731C-4583-BCE5-DF5FFE49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8D26A-C4F6-4977-B338-B1019115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5F064-4E03-413A-85AD-3D747381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203FC-FD2D-4DAA-96E8-D42961A7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5595D-ABDA-4CB4-AD16-11540C02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40FCF-ED24-4A67-82B8-F5B2ABFD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DD26F-65C6-4475-8134-75180E1F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0150F-3CF8-45FA-8FAF-45414885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B728F-F19C-426D-91F1-B5AAAE48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BCAEA-04E0-459F-8630-B835C1DB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6E2A5-99D3-45B2-AD75-58743B3A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4F5-DDEF-409D-88C9-C39E42E3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05830-E29E-413F-91F4-DE264FB3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5F486-22B6-4027-9A42-5492B566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416D5-990F-488F-B7EF-E0F4585C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4580A-70A0-4C55-8E02-17CE680B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CF646-AD11-4900-80E8-8ADD3006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7A654-C9DB-4D92-B639-E65143BA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AA07E-D4C2-45DA-B096-C8A7FF38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8EE24-5B19-44CE-9AAB-DB0AEA99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5418C-C36B-479F-9E23-CD727E0A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2662F-0EB9-418C-96BC-78075DA2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74F5-6C52-4005-8AE2-5EBFDEFCF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0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A5FD-C4E9-464F-B647-EDB9C172E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FE1E-1682-4A57-B148-40DF6C353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9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0AA1-241F-44A8-B6E9-E081A1B0F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8C3E-FF98-462B-B1C1-6B1EB1B4B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0109-270F-48BE-83E4-299F7BA16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1391-D99A-40A5-84DC-BCD158951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1490-234E-4C5D-B304-C612DA7FC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2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37DE-5427-4326-96BC-0A407EE8D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7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9F07-DA21-4ED6-8C73-ADA059BBC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1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8F0F-0C60-4D36-9A52-A0CDC4F23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6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1631-6CE1-4E2A-A0B6-89DAE486C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3 Northeastern States and Capi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7"/>
          <p:cNvSpPr/>
          <p:nvPr/>
        </p:nvSpPr>
        <p:spPr>
          <a:xfrm>
            <a:off x="6705720" y="22096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 Gust 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ind blew our horse’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Mai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Freeform 8"/>
          <p:cNvSpPr/>
          <p:nvPr/>
        </p:nvSpPr>
        <p:spPr>
          <a:xfrm>
            <a:off x="6019920" y="1523880"/>
            <a:ext cx="685800" cy="695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6858000" y="28195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6095880" y="3657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aine, Augu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5"/>
          <p:cNvSpPr/>
          <p:nvPr/>
        </p:nvSpPr>
        <p:spPr>
          <a:xfrm>
            <a:off x="6248520" y="26668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Freeform 7"/>
          <p:cNvSpPr/>
          <p:nvPr/>
        </p:nvSpPr>
        <p:spPr>
          <a:xfrm>
            <a:off x="5486400" y="2438280"/>
            <a:ext cx="685800" cy="533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6324480" y="2590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Clue nee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6095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Pennsylvania, Harrisbur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’ll 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New York shopp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Freeform 7"/>
          <p:cNvSpPr/>
          <p:nvPr/>
        </p:nvSpPr>
        <p:spPr>
          <a:xfrm>
            <a:off x="5486400" y="1981080"/>
            <a:ext cx="76212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6095880" y="3657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ew York, Alban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r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ok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irginia W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Freeform 7"/>
          <p:cNvSpPr/>
          <p:nvPr/>
        </p:nvSpPr>
        <p:spPr>
          <a:xfrm>
            <a:off x="5410080" y="2819520"/>
            <a:ext cx="457200" cy="5331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6248520" y="39625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West Virginia, Charles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ch 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ok his sac of Money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irgi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Freeform 7"/>
          <p:cNvSpPr/>
          <p:nvPr/>
        </p:nvSpPr>
        <p:spPr>
          <a:xfrm rot="20600400">
            <a:off x="5398920" y="2897280"/>
            <a:ext cx="808200" cy="6192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6248520" y="4038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Virginia, Richmo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pp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ry La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5638680" y="2819520"/>
            <a:ext cx="587520" cy="3045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6324480" y="3809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aryland, Annapo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la w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swimsuit when s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ve O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riv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Freeform 7"/>
          <p:cNvSpPr/>
          <p:nvPr/>
        </p:nvSpPr>
        <p:spPr>
          <a:xfrm>
            <a:off x="6019920" y="2743200"/>
            <a:ext cx="152280" cy="3049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6172200" y="4114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Delaware, Do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6477120" y="26668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cous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ent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ght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w Jerse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Freeform 7"/>
          <p:cNvSpPr/>
          <p:nvPr/>
        </p:nvSpPr>
        <p:spPr>
          <a:xfrm>
            <a:off x="5943600" y="2438280"/>
            <a:ext cx="380880" cy="4669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6477120" y="3886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ew Jersey, Tren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2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3" name="Freeform 8"/>
          <p:cNvSpPr/>
          <p:nvPr/>
        </p:nvSpPr>
        <p:spPr>
          <a:xfrm>
            <a:off x="6248520" y="2286000"/>
            <a:ext cx="152280" cy="303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6858000" y="2286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.I.P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you little sta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6095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Rhode Island, Provid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8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5"/>
          <p:cNvSpPr/>
          <p:nvPr/>
        </p:nvSpPr>
        <p:spPr>
          <a:xfrm>
            <a:off x="6248520" y="28195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cut is connected to RI and they have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art F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ach oth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Freeform 7"/>
          <p:cNvSpPr/>
          <p:nvPr/>
        </p:nvSpPr>
        <p:spPr>
          <a:xfrm>
            <a:off x="6095880" y="2362320"/>
            <a:ext cx="228600" cy="2286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6095880" y="41911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Connecticut, Hartf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8"/>
          <p:cNvSpPr/>
          <p:nvPr/>
        </p:nvSpPr>
        <p:spPr>
          <a:xfrm>
            <a:off x="6629400" y="19810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eopl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o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os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Freeform 9"/>
          <p:cNvSpPr/>
          <p:nvPr/>
        </p:nvSpPr>
        <p:spPr>
          <a:xfrm>
            <a:off x="6095880" y="2209680"/>
            <a:ext cx="381240" cy="2383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6095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assachusetts, Bos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8"/>
          <p:cNvSpPr/>
          <p:nvPr/>
        </p:nvSpPr>
        <p:spPr>
          <a:xfrm>
            <a:off x="6553080" y="24382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r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xt door, ate all the je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Freeform 9"/>
          <p:cNvSpPr/>
          <p:nvPr/>
        </p:nvSpPr>
        <p:spPr>
          <a:xfrm>
            <a:off x="6019920" y="1828800"/>
            <a:ext cx="228600" cy="533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6019920" y="4114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Vermont, Montpel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8"/>
          <p:cNvSpPr/>
          <p:nvPr/>
        </p:nvSpPr>
        <p:spPr>
          <a:xfrm>
            <a:off x="6629400" y="19051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9"/>
          <p:cNvSpPr/>
          <p:nvPr/>
        </p:nvSpPr>
        <p:spPr>
          <a:xfrm>
            <a:off x="6095880" y="1905120"/>
            <a:ext cx="282600" cy="4572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6553080" y="25909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r #1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Hampst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te the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nco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pe jel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 Box 12"/>
          <p:cNvSpPr/>
          <p:nvPr/>
        </p:nvSpPr>
        <p:spPr>
          <a:xfrm>
            <a:off x="6172200" y="4267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ew Hampshire, Conc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dcterms:modified xsi:type="dcterms:W3CDTF">2017-10-06T13:41:02Z</dcterms:modified>
  <cp:revision>39</cp:revision>
  <dc:subject/>
  <dc:title>United States</dc:title>
</cp:coreProperties>
</file>