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C2F-2691-4396-94C7-A5218752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E96-2D86-4799-AF5F-21936268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7B7DE-C9CC-4209-BA3B-B1201C38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7BB7B-6B0B-4B6A-994D-3A5D501D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A9E18-BF3D-4B48-BF38-59C58E41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6FE68-F628-4507-A1B8-73C241FE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61D5C-2B2E-4063-9311-AC2AE7F1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73ACF-D2CB-4E27-9625-370FF581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3A51F-8036-4C09-B8E5-80FBD11F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E6E05-8CBA-4A72-9892-3B3EB92E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EB98C-0CFB-4217-BB26-1236F7CB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53B49-C542-4232-B714-33198223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331-3AC3-454D-BCED-5D23CD84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9E9FA-9F9B-4566-885B-660CB098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5C16A-C2BE-4EF4-8E64-61FC5F47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5747A-AA42-4DC1-B5C4-6980E8C5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227D9-5868-49E0-A138-8B57ED51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6AB5A-59D8-4F02-B727-9BE705C1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00506-65E2-440B-A0D6-5A87B19E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93F04-8919-4284-BC13-EF339DD2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222A9-D82E-4DDA-AF61-4F76765F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BB2B0-6A6F-4691-944A-D19652AE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ACE96-A8F5-41A8-A386-68CF403F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46D-D415-404D-BE79-68DBF913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6610A-6C51-4700-A1AF-E182A0FA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C3EDE-AE5D-4E84-A2F1-866BC424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0C647-CF06-4C87-858B-2827D699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84C36-BB5C-4D6D-B9EB-BB288756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B289F-8E8A-4C5B-A448-FA91C10D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134A4-69AF-4C9F-98F9-3CF27586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9B437-1446-420C-B5B3-BCF48967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57793-A983-41BD-B5FA-BDE6094F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AD5C5-8D08-4121-B154-73565476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A56F2-C5A2-40C7-BE96-7E6B4673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0FE9-C2F7-4745-AFCA-943A57F6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48CB1-84E4-4DD6-A894-6FDD6769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C5792-351B-4012-B545-D7AF7FA5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3EAA0-0B2E-41A5-B107-B2A026BD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C9CA8-34A9-4F69-956A-FD36F653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76C1B-A872-4087-82F0-63DBD1D7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BAF86-80BA-4E79-852C-71FE76F8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72D77-9867-4473-8EC8-617B45D4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E8B93-3E84-4C2A-BFD6-B241540A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8B87C-BF9A-4743-8AC7-78ACEAC1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0B771-483D-434A-9767-026A153C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3022-260E-47F6-872D-C076706F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EB85B-9163-4B22-AE28-49B3487B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47E81-9E59-43E8-81FB-9C2755AD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8CB0E-06AE-4AC0-819B-2BBA4709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5BB5C-1491-47AC-B614-27159B80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D4564-0A0B-40B6-9537-5D111E13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DD93-4E71-40B0-8271-E820DAE3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973F-37AA-460C-894D-FEE55243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24D4-2069-4A16-92BD-1CA372B3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7C07-8A99-4ED5-895A-F6FE201A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E112-8950-4124-93AE-264ED045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025-B2B2-44FA-8CD9-F91F13B6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DAC4-A207-43E5-BA56-22C3FF92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BD07-680F-4E3A-9BD7-006FDE51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7241-DD02-4123-B028-8E616191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E8F2-7641-46BE-BF98-48AF245B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1516-F676-4910-8B0D-767D9455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8FA50-D2BC-4834-9EBC-9EA75979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91E51-2741-430F-AFCD-8406DDBC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E0801-0C67-4681-ACCD-F2DEE9EE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5B9FB-6CA7-4FBA-89D3-D0DC11E4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2F9E4-99C3-4121-A9F9-AB200664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C59-059C-40B6-B40C-A5E2DE2D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EF205-2988-4370-A21B-EDB6F182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0FCC3-2236-4E97-8993-3B21EC42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20DAF-553D-43D4-9DF1-FD3672D8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2258B-4D6F-47D0-9EAE-455EAC71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A950B-0085-4DFF-81DB-9B6044D2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934A-2FFC-424F-9835-48448EB5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8D23-A83D-4A1E-9F7A-B6959ED1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FAC6D-3018-4D32-8B69-4F8C0983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FF3B2-2819-4AC4-987D-CADFA159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9AB1F-AC90-4B94-9247-A6A7E155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01F-84A2-4B90-B3DE-DBAB4444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41CA-A39F-4595-ABE0-5DD653DE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54E9B-1002-4289-BF80-C4A90725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F291E-BECF-4AC1-9EE7-56F5E745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D13D4-9162-4B86-8720-11656277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82503-4E56-42A8-A06A-3B67E02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4901D-0B4D-44D3-A5D4-6F93F461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F074-6C46-4169-B288-0BCF5EF1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1E26F-856E-475D-8144-0050D4B8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F02BA-B5D1-40B5-9B2B-BDF6A9FB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19360-079C-4FC2-BEA4-93122E22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D82-5EB6-4771-BDE3-AB4227D6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21505-8A75-4F8E-B22E-5C6768A7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CC418-3EAD-42E3-97E6-706B0E66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2F20A-59A0-47B0-A97F-C746FD41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9295A-620E-4129-9CF0-D2297FB7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F1EAE-F3D4-4495-89A4-885CE239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323B2-A5A7-458D-AC02-E5B2A598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6DDF3-FE3C-425E-9D51-F2A20DF7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67EBE-8282-452E-842D-5E197A3B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0F0E9-4534-4B28-B3C3-B9B671C3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9259B-103A-421D-BDDE-C3B173DC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AE2-FA5B-435E-BB97-350A0A6F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3F25C-950D-4E10-AC0B-005BC129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5CE63-04D8-4777-8DF6-BBD53B54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D9AC0-7D83-4177-90F0-DBE609E3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759DE-D348-4FF6-A3B9-1E9DC30C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201FF-CD08-46C8-93DD-2D2DB0D2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FEAD6-4CD6-44DC-B1F8-E24F365A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26557-2C79-4CCB-9373-C54FFB8F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8E38E-7BD1-4EF3-91BE-54A1A73B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CC6FF-C316-4228-A52F-A72F4860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C1E9E-AFB3-4DFB-8FCA-54316B89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B95-5104-42B5-AEE8-24C5D306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7AE47-4E62-4841-A0E9-777FB68C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1B23B-BDB3-4F87-B3B7-275D3F1D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78F28-3AF5-4AE1-8FE0-2671B49C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0CEFD-EACA-45C6-A8FB-47F74E11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C1960-D847-4C71-A2E6-7B97BAE0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C1CF7-82BF-499E-AA69-C4151846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727E3-FC62-4650-A439-F60005A1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5AF1E-670E-436B-BCA0-07B65EF6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221E3-4C47-41BB-AACB-15013884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A413C-2BAA-4AEA-AE7E-6EF05B20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7AB-2C4E-4E48-AD8C-C53BB5B9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D7B91-B081-4170-A23D-0149883E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E4126-9EE7-418C-9DD0-5C7731C9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8A67F-CA91-412F-AE2A-570D3AE3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8F03C-A5FF-4003-B74C-A6BF57EB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BE33C-CE9E-4F53-A62C-5A80CF81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BC6A6-87CF-4D72-8DBB-A33966B8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8BD15-0E85-4CF8-A7CE-724F43E2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AF722-07EF-4574-B44E-F2682190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1FEC7-7540-402F-96C6-FECBDCCB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868FB-FEFA-4271-9797-65FC19C3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3BE-6152-4BEB-A728-876515CE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E649F-1DC6-41D3-BE76-A2D49C0F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BC28C-5D9A-49BB-B843-2D8AF921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728BB-ED33-44E0-BF5D-78712779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8A4F5-E8EF-4E0C-8250-1D8603D0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EAF20-35C2-48B4-BCDB-D916D0AD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046D6-FABA-45E6-8321-E314FA7D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3801B-CEF9-41B4-ACC2-06B12A24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CA797-00BE-4E43-A057-E9D8307D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9E5F6-A83F-45D6-A3FC-9A7E2EE1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3C628-1437-4B08-AF5D-D2994279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2638-5249-4FB6-A0DD-464588A72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1E05-4D98-4A62-A4E8-6BB4A07B4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0676-388B-41EA-9C7F-228A3A052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B345-51C4-4D52-BE5D-3AA3D7EE8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1341-399F-4765-9E35-47949C571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7A77-B7FF-42F0-82F1-CF118FB03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FBCB-1E49-4316-91F5-B7E1D1152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368D-90B2-4DEE-AE41-6980AB7D7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9323-4BB3-48A5-B338-C26AD201D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641E-F04F-491B-A0C3-AD347696C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681F-F1A2-4CB1-9DF5-A9165BCB4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ADAB-F329-4389-BCF0-21B21CC2D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Northeastern States and Capi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7"/>
          <p:cNvSpPr/>
          <p:nvPr/>
        </p:nvSpPr>
        <p:spPr>
          <a:xfrm>
            <a:off x="6705720" y="22096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 Gust 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ind blew our horse’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Mai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Freeform 8"/>
          <p:cNvSpPr/>
          <p:nvPr/>
        </p:nvSpPr>
        <p:spPr>
          <a:xfrm>
            <a:off x="6019920" y="1523880"/>
            <a:ext cx="68580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6858000" y="28195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60958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ine, Augu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6248520" y="2666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Freeform 7"/>
          <p:cNvSpPr/>
          <p:nvPr/>
        </p:nvSpPr>
        <p:spPr>
          <a:xfrm>
            <a:off x="5486400" y="2438280"/>
            <a:ext cx="685800" cy="533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6324480" y="2590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lue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Pennsylvania, Harrisbu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’ll 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New York shopp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Freeform 7"/>
          <p:cNvSpPr/>
          <p:nvPr/>
        </p:nvSpPr>
        <p:spPr>
          <a:xfrm>
            <a:off x="5486400" y="1981080"/>
            <a:ext cx="76212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60958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York, Alban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k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rginia W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5410080" y="2819520"/>
            <a:ext cx="457200" cy="5331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6248520" y="3962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est Virginia, Charles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ch 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k his sac of Money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rgi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Freeform 7"/>
          <p:cNvSpPr/>
          <p:nvPr/>
        </p:nvSpPr>
        <p:spPr>
          <a:xfrm rot="20600400">
            <a:off x="5398920" y="2897280"/>
            <a:ext cx="808200" cy="619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6248520" y="4038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irginia, Richmo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p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ry La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5638680" y="2819520"/>
            <a:ext cx="587520" cy="3045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6324480" y="3809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ryland, An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la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swimsuit when s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ve 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riv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6019920" y="2743200"/>
            <a:ext cx="152280" cy="304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6172200" y="4114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Delaware, Do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6477120" y="26668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cous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ent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ght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 Jerse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Freeform 7"/>
          <p:cNvSpPr/>
          <p:nvPr/>
        </p:nvSpPr>
        <p:spPr>
          <a:xfrm>
            <a:off x="5943600" y="2438280"/>
            <a:ext cx="380880" cy="466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477120" y="3886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Jersey, Tren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3" name="Freeform 8"/>
          <p:cNvSpPr/>
          <p:nvPr/>
        </p:nvSpPr>
        <p:spPr>
          <a:xfrm>
            <a:off x="6248520" y="2286000"/>
            <a:ext cx="152280" cy="303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6858000" y="2286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.I.P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you little sta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Rhode Island, Provi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6248520" y="2819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cut is connected to RI and they have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art F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ach oth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6095880" y="2362320"/>
            <a:ext cx="228600" cy="2286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095880" y="4191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Connecticut, Hartf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8"/>
          <p:cNvSpPr/>
          <p:nvPr/>
        </p:nvSpPr>
        <p:spPr>
          <a:xfrm>
            <a:off x="6629400" y="1981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opl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o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s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9"/>
          <p:cNvSpPr/>
          <p:nvPr/>
        </p:nvSpPr>
        <p:spPr>
          <a:xfrm>
            <a:off x="6095880" y="2209680"/>
            <a:ext cx="381240" cy="2383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ssachusetts, Bos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8"/>
          <p:cNvSpPr/>
          <p:nvPr/>
        </p:nvSpPr>
        <p:spPr>
          <a:xfrm>
            <a:off x="6553080" y="24382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r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xt door, ate all the je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reeform 9"/>
          <p:cNvSpPr/>
          <p:nvPr/>
        </p:nvSpPr>
        <p:spPr>
          <a:xfrm>
            <a:off x="6019920" y="1828800"/>
            <a:ext cx="228600" cy="533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6019920" y="4114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ermont, Montpel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8"/>
          <p:cNvSpPr/>
          <p:nvPr/>
        </p:nvSpPr>
        <p:spPr>
          <a:xfrm>
            <a:off x="6629400" y="19051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>
            <a:off x="6095880" y="1905120"/>
            <a:ext cx="282600" cy="457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6553080" y="25909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r #1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Hamps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te th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nc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pe jel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617220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Hampshire, Conc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dcterms:modified xsi:type="dcterms:W3CDTF">2017-10-06T13:41:02Z</dcterms:modified>
  <cp:revision>39</cp:revision>
  <dc:subject/>
  <dc:title>United States</dc:title>
</cp:coreProperties>
</file>