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A52-FB43-4178-BFF8-A4033F2A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EF3-73B3-4B8F-BBD1-260E431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F0885-B2DB-4ECC-8B26-A47031AA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73B04-5941-495A-B845-963D7354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7D7F3-19D1-4674-BED6-FBEE782F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8C7B2-08A0-4800-BECF-35FF9F9D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BE1CD-645F-4BD6-BCBB-EA6C0F2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B6367-68E7-4979-9A50-14AB9EA2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7B265-D146-4980-87EA-1A26500E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4AAD3-4D4B-4DA9-8436-FAC8CE19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BEE42-3F47-4CB1-9DD6-F50B7937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2CE94-B098-47C9-BF4B-202EBDDF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149-B845-4B5C-A854-80F6398E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36BF6-091D-4C4F-86B4-94E30075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8DFB7-2385-448B-B12B-EB8D1A42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E6386-E928-4E27-8BDD-BB94788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D3787-493F-4190-9A0D-CBE7F249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98EBB-E5DE-44FC-A6E5-7F2BDC5E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B6CC2-DB19-48E6-845E-681EB5D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7A85-2F8F-4388-9210-7837E975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9A0FA-9BBF-4E07-9176-5913C31C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8B9AD-94B7-4B27-9501-0F57F2C3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2AC7E-EFBB-4177-A039-C734D70F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CB1-886F-4AB7-91F3-7549932A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24D4A-1FD9-409C-AA31-4C29C21E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71EE8-F3C3-41B1-AE21-194FD7AE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05541-8DC9-4F83-97D7-43EE16BA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A19EF-B199-4D53-86A1-DD91A050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62E07-FD07-43C2-AB64-71CA45F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4F60F-8693-4421-87B4-D6DBA5AA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83672-D73B-431C-93C2-C2CBC71F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7C06F-9CDC-45FD-BC2E-0F6A9C23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F2C6F-2F65-4551-89A1-53941273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4D958-1A5A-414A-B220-DFF548D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0BDA-55B6-45D7-8409-3355C7E1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7DD3A-EC1A-427F-8A5B-4E5CD6F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04B14-B544-4EDD-86A5-83A67B1C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2C6F-CE7B-490E-B50B-694ACA46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E281E-A335-49C8-BE2E-E82CA57B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ABBCD-F451-4DBA-945B-F3ED6A0E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8964E-2C0C-4FD2-B6AB-411F254E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1D233-05F7-469F-BBDB-4495C21A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BBDFB-A9A7-4FF3-8419-432D9456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C501E-FE16-4471-9F7D-613F8EE9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86064-4A14-405F-B3E6-D251F87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D510-F01C-4B03-8C6E-09B1345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642BD-D4F6-4734-850C-5514508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C5154-D0BA-45E1-B5EF-CCB233AD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FB213-657E-4F58-BF86-27E2983A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4113D-0107-4A90-BE2C-F33EB628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07A42-34F0-4739-A4DA-24654609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F18C-2B03-446F-8C8F-B39E56C9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5B76-B956-428A-ACE3-33E1343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2555-A006-415E-BD74-7443C78F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3C50-2F6E-43D2-AE75-3B288E0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2C48-1ED9-423E-84F4-AA2081B1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478-490F-4FDC-AB4F-4341331C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C104-889C-4F28-9DF2-FAA8374C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1281-ED57-4B70-89B5-9EB97CF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8CC8-87E9-4039-9440-9C564054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8A20-53A9-4320-88D7-2A48FB1C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075F-51CB-44D2-BEBE-AB9699F1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3309-EC02-4608-8D5F-667D5AD7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D193-8FFD-4536-839A-17882AE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E116-C748-4AD3-AA7B-558CF310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8601-B299-494A-8594-7C86214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08FD-38E9-4C56-A04B-903EEB5C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2A1-A4E9-4305-A7E3-802705B8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70249-D73F-427E-8B0A-3191C175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1FE9-8620-448B-867C-D158707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E6C1-16EE-4048-8EFE-A1493AC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57CB-FE6C-4C5C-9CCF-209A4C7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4A3D-5B96-4B22-9DF7-25D92F0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D6CA-1011-4C8F-8BA6-AD473BF9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777A-4E77-4156-BBB4-39A72DE8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13AE-7CCB-495D-AEBF-E8B85113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7A27-69ED-4126-BD3C-3AB58F44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C8041-68C5-4589-8055-F54AE5F3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761-BF00-403C-958A-4846CC97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B02F-9D1A-43CE-A4AC-8606001E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4E25-A226-4B6A-B419-CAAC55D5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EE31-14EB-4830-A055-3396B3BD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DD83-525E-4FEE-B96A-AD76747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2DE1-5FA6-4D12-8FF0-7497482C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9A35-F7B6-4047-8EDC-24B4B466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D2D4-2835-4AAD-BEF6-9BC0BD8E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5F29-B2E1-48F6-B814-7CA159A4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B2E4-FBDC-423F-AE62-7046C91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EC2F-31A0-44E4-B35F-B46413A7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FA3-1D14-418F-835E-2A667400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9C0E-9039-4B90-92BE-6BFF984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364FC-6FC6-49BA-AB55-55F59D9D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70D4-4C9B-486A-B9AA-658F1ED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66BE-724D-4A5E-97C8-44E8BF0C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ED45D-780E-4455-8D53-5F04D2DF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D976-F872-4B39-A7F7-24F8ABEA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1100-023E-4646-B8EE-7519674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CA5E-6E38-45E4-B139-9C0A051F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8E567-FE3B-4046-BC4C-8E819D01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8879-C582-47F3-9088-8605A1F8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2CA-548A-4586-A2D7-2A84D2A2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C58EE-B399-407B-897C-B3706823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9ECA-F2D3-4FC2-AB63-AEA3EB54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F9463-3F9D-4ACB-8621-567AEAB8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F647F-ECF4-4769-97C0-EDFF884D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B3EE3-D746-47ED-8816-E3B19FE5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9068-51B3-4BFB-8803-BAA43975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152DF-E616-45CA-AE5B-3CB6C734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8442-B26E-4DEC-9D49-C90F1B2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C2611-615D-4232-9516-DE61E8F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80BB-F69B-4209-94CE-D6F68FE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6C1-D0AE-4604-B05A-8FAE88A0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A5EE-EC42-4434-919B-84C08B44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8DF16-0222-4877-A602-5ABAB136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F814-B5C1-42D0-933D-EF835A2E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FB5A3-83A7-44C2-8097-2D581FB3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9CBA-18C7-4DDE-BCFF-875A129A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0DFF5-12CC-44CD-AA7C-346EFC4D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60EBE-3147-426B-A355-60E3BF84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467D-D9D4-4930-93BD-F99A7934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67FA-3DDC-47CA-A0D1-0732172C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CB4CD-0E14-4FD0-AEF5-EE53524F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3FE-1F4A-4144-9CC2-664BDC2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E5864-5206-48BD-9292-5A91A0D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B3C04-9251-45A3-B2F1-DD129EB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7221E-EFA3-4842-90D9-BFD1D832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7EC57-64FC-4A6B-933C-A2A867A7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70E39-C098-447C-B708-64392602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E0CDC-3CD0-45BA-8088-EDCE8447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D7A1C-5787-4DD7-84C5-660F7E20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BAC82-EE54-4D5C-B493-62F9AAC6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07359-6F1C-4A4C-892B-CA5885D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EAA0-E0CE-4D9B-84D2-B5BAAAA5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B14-503B-41A6-A975-39700AAD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18E1-1988-4405-BE86-95CB2D6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6B9A1-3A0F-456B-9EC0-0F562011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20EB4-03E3-4533-8E14-C76EAD5A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EB74B-AA4C-4DC7-AE01-ADEB0FF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D40B3-101F-42A4-99EE-BD7751EE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FA53-70CF-4B1A-972A-E5ADE828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FDD5-A319-4929-A56D-F5EA9282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A08FB-8CD2-445E-9420-6B1CF9A1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8D5BF-B17A-490A-9130-055E84D3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2E7EB-38D0-430C-8101-6B9D72C1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F791-6456-474F-9495-161DA4778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AFFC-BB7B-4807-B94F-8EABACC5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EE69-69A3-4536-86D5-7BBA3D1F5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9F7-FE80-4C35-B239-4710CA9C5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F069-5B9A-48B2-A101-CADCA7922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1FC7-F1CD-40F0-9680-15F14A8B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95F-9C35-44B2-AA27-7CD33EB90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F48-4C53-4757-8E15-FF88243B6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080-939D-4EB3-A0B5-38126E85B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DD72-1121-4304-B6F1-0F113EAAF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823E-BAE2-42BC-A207-EA3F1C851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B718-4A26-4526-BB55-56D5E78A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Northeastern States and Capi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6705720" y="22096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 Gust 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nd blew our horse’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Mai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Freeform 8"/>
          <p:cNvSpPr/>
          <p:nvPr/>
        </p:nvSpPr>
        <p:spPr>
          <a:xfrm>
            <a:off x="6019920" y="1523880"/>
            <a:ext cx="685800" cy="695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6858000" y="2819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ine, Augu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6248520" y="2666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5486400" y="2438280"/>
            <a:ext cx="6858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6324480" y="2590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Clue nee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ennsylvania, Harrisbu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’ll 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New York shopp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5486400" y="1981080"/>
            <a:ext cx="76212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6095880" y="3657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York, Alba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r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 W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5410080" y="2819520"/>
            <a:ext cx="457200" cy="5331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6248520" y="3962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st Virginia, Charle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ch 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k his sac of Money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Freeform 7"/>
          <p:cNvSpPr/>
          <p:nvPr/>
        </p:nvSpPr>
        <p:spPr>
          <a:xfrm rot="20600400">
            <a:off x="5398920" y="2897280"/>
            <a:ext cx="808200" cy="619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4852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ginia, Richmo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y L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5638680" y="2819520"/>
            <a:ext cx="587520" cy="30456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63244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ryland, An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a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wimsuit when s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ve O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riv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Freeform 7"/>
          <p:cNvSpPr/>
          <p:nvPr/>
        </p:nvSpPr>
        <p:spPr>
          <a:xfrm>
            <a:off x="6019920" y="2743200"/>
            <a:ext cx="152280" cy="304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617220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Delaware, Do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64771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cous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en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ght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Jerse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Freeform 7"/>
          <p:cNvSpPr/>
          <p:nvPr/>
        </p:nvSpPr>
        <p:spPr>
          <a:xfrm>
            <a:off x="5943600" y="2438280"/>
            <a:ext cx="380880" cy="4669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4771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Jersey, Tren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2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3" name="Freeform 8"/>
          <p:cNvSpPr/>
          <p:nvPr/>
        </p:nvSpPr>
        <p:spPr>
          <a:xfrm>
            <a:off x="6248520" y="2286000"/>
            <a:ext cx="152280" cy="3031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68580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.I.P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ou little sta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Rhode Island, Provi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8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624852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 is connected to RI and they have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rt F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ach oth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6095880" y="2362320"/>
            <a:ext cx="228600" cy="2286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095880" y="4191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Connecticut, Hartf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8"/>
          <p:cNvSpPr/>
          <p:nvPr/>
        </p:nvSpPr>
        <p:spPr>
          <a:xfrm>
            <a:off x="6629400" y="1981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opl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o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s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6095880" y="2209680"/>
            <a:ext cx="381240" cy="238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6095880" y="3657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Massachusetts, Bos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0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8"/>
          <p:cNvSpPr/>
          <p:nvPr/>
        </p:nvSpPr>
        <p:spPr>
          <a:xfrm>
            <a:off x="6553080" y="243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r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xt door, ate all the je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Freeform 9"/>
          <p:cNvSpPr/>
          <p:nvPr/>
        </p:nvSpPr>
        <p:spPr>
          <a:xfrm>
            <a:off x="6019920" y="1828800"/>
            <a:ext cx="228600" cy="5335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019920" y="4114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ermont, Montpe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6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6629400" y="19051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6095880" y="1905120"/>
            <a:ext cx="282600" cy="4572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65530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r #1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Hamp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te th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nc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rape jel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617220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New Hampshire, Conco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dcterms:modified xsi:type="dcterms:W3CDTF">2017-10-06T13:41:02Z</dcterms:modified>
  <cp:revision>39</cp:revision>
  <dc:subject/>
  <dc:title>United States</dc:title>
</cp:coreProperties>
</file>