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0049-4BEC-45F2-8570-8D75D28A5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5485-288D-470D-8E3E-BD4A3570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4320-26E4-4151-A6B9-16301322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309E-57C9-4927-8D0F-3DA77592E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B9D2-C146-423A-9FAF-E3865B4A0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17A7-4F53-4CBE-952F-9C60283C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0909-F6CF-47E2-87AB-D5043EE4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EC68-B568-4A03-BB24-0D9E2FC8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B745-2A50-485E-80E2-D9C6A7E2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C7C8-81EC-490B-A1D0-E8DB4C65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C645-BE08-4E2E-92CB-93BBC302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2677-D114-4F9A-A27B-B4EDA452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EB85-ABCF-4975-9466-EF441A8B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012F-713D-47F2-9531-5AB7F56F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3E75-E2CE-4810-B7C7-9339E35A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FF60-4E28-4BE3-A3C3-6FF4B1200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08A3-8740-498E-8F16-22D05A4AB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F80F-67B1-4D49-90C7-AB50EB8E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CD6B-D134-409D-A0F2-42708CFC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9E9F-D4A9-452F-BBB5-A26CEC5E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42BE-F802-4546-92EC-ADA66F57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9BFD-CA2B-46FD-8539-5F64BCF0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2638-4DA7-497B-AA48-32963283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EA46-845E-404B-A846-6842C129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A6AD-D442-472C-83DC-0F4F5AB9B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3C2B-0E11-444D-B88D-1EB94253A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United Stat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ates and Capitals IIII – 11 Wester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e’s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hy A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wondering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she didn’t get any chips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Freeform 6"/>
          <p:cNvSpPr/>
          <p:nvPr/>
        </p:nvSpPr>
        <p:spPr>
          <a:xfrm rot="394200">
            <a:off x="2589120" y="2357280"/>
            <a:ext cx="841320" cy="83844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yoming, Cheyen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 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don’t need to ad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l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your chip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Freeform 6"/>
          <p:cNvSpPr/>
          <p:nvPr/>
        </p:nvSpPr>
        <p:spPr>
          <a:xfrm rot="394200">
            <a:off x="2142720" y="2657520"/>
            <a:ext cx="762120" cy="10666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tah, Salt Lake C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6248520" y="26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ado, Denv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Freeform 6"/>
          <p:cNvSpPr/>
          <p:nvPr/>
        </p:nvSpPr>
        <p:spPr>
          <a:xfrm>
            <a:off x="2590920" y="2971800"/>
            <a:ext cx="1066680" cy="6858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6248520" y="26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zona, Phoeni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Freeform 6"/>
          <p:cNvSpPr/>
          <p:nvPr/>
        </p:nvSpPr>
        <p:spPr>
          <a:xfrm rot="967200">
            <a:off x="2133360" y="3352320"/>
            <a:ext cx="838080" cy="11430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n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ing down the chimney with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ese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6"/>
          <p:cNvSpPr/>
          <p:nvPr/>
        </p:nvSpPr>
        <p:spPr>
          <a:xfrm rot="967200">
            <a:off x="2666520" y="3352320"/>
            <a:ext cx="838440" cy="11430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w Mexico, Santa F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 park your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rs in the C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Freeform 6"/>
          <p:cNvSpPr/>
          <p:nvPr/>
        </p:nvSpPr>
        <p:spPr>
          <a:xfrm rot="967200">
            <a:off x="1599840" y="2666520"/>
            <a:ext cx="838080" cy="11430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7"/>
          <p:cNvSpPr/>
          <p:nvPr/>
        </p:nvSpPr>
        <p:spPr>
          <a:xfrm flipV="1">
            <a:off x="1371600" y="3505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533520" y="38098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shiel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vada, Carson C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ta carries a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of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ent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around for his bad breath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Freeform 6"/>
          <p:cNvSpPr/>
          <p:nvPr/>
        </p:nvSpPr>
        <p:spPr>
          <a:xfrm rot="967200">
            <a:off x="1039320" y="2708280"/>
            <a:ext cx="1155960" cy="13590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lifornia, Sacrame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ck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i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to the oce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Freeform 6"/>
          <p:cNvSpPr/>
          <p:nvPr/>
        </p:nvSpPr>
        <p:spPr>
          <a:xfrm rot="967200">
            <a:off x="1219320" y="2057400"/>
            <a:ext cx="1143000" cy="8380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6248520" y="4267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regon, Sal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ashingt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moking his pipe watching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lymp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Freeform 6"/>
          <p:cNvSpPr/>
          <p:nvPr/>
        </p:nvSpPr>
        <p:spPr>
          <a:xfrm rot="967200">
            <a:off x="1295280" y="1676520"/>
            <a:ext cx="1143000" cy="8380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ashington, Olymp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had to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o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the potatoes to make their favorite chips –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oi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Freeform 6"/>
          <p:cNvSpPr/>
          <p:nvPr/>
        </p:nvSpPr>
        <p:spPr>
          <a:xfrm rot="394200">
            <a:off x="1965240" y="1755720"/>
            <a:ext cx="776520" cy="12193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6248520" y="4267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aho, Boi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e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nta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and his wife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le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eating the chip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Freeform 6"/>
          <p:cNvSpPr/>
          <p:nvPr/>
        </p:nvSpPr>
        <p:spPr>
          <a:xfrm>
            <a:off x="2057400" y="1752480"/>
            <a:ext cx="1447920" cy="9144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6248520" y="4267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ntana, Hele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3:35:24Z</dcterms:created>
  <dc:creator>Penn Cambria School District</dc:creator>
  <dc:description/>
  <dc:language>en-US</dc:language>
  <cp:lastModifiedBy>John Edgell</cp:lastModifiedBy>
  <cp:lastPrinted>2014-10-21T11:51:19Z</cp:lastPrinted>
  <dcterms:modified xsi:type="dcterms:W3CDTF">2016-11-01T12:33:13Z</dcterms:modified>
  <cp:revision>21</cp:revision>
  <dc:subject/>
  <dc:title>United States</dc:title>
</cp:coreProperties>
</file>