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17F-4E56-4F95-8AC3-9E79F4D8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1CD-0BBC-4510-B38E-552A7C86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32C-9D0C-4A32-873A-77BF54B4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3CF-3311-4FBD-AFCC-F7605D25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8FC1-980F-483D-B56F-D2BA94B0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95F9-CE18-4C5B-824C-7428F279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9FB8-22CC-426E-978B-454B3810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1958-1691-4F46-B099-651CE3EC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BE8A-2D25-410D-ADB4-E1C22F62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C04D-CA09-46FF-9A0F-57370157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EABA-B939-4672-B04B-FC28776C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F8A-7844-4515-BC62-96BB32FE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912A-F64C-45DE-8AF4-4F23220F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ABA5-10DD-4067-AC97-BC9C5981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829A-FBBA-498B-8C3E-E1E23C8A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B2D9-9EAF-4E1E-9B2F-917745A6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53B2-1F42-44AA-94EE-F050EAE8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7CA-AE66-4CA9-B793-A8CDE884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5BE-3711-4735-B0EA-9D50E1B9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3CA-2881-43BB-9559-9C190C75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F8E-0DD1-496C-8D1D-9F9FFFA6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978-AAC8-4719-9EF4-68DF2ABE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9AD-007A-4904-8C74-4932BAC6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719-C9B9-4387-BCC4-453071C1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378E-A274-4AAF-A24C-BFB8A2822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3494-09F1-4B3A-A4F9-A95A481D2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s and Capitals IIII – 11 Weste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’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y A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ondering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she didn’t get any chip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eform 6"/>
          <p:cNvSpPr/>
          <p:nvPr/>
        </p:nvSpPr>
        <p:spPr>
          <a:xfrm rot="394200">
            <a:off x="2589120" y="2357280"/>
            <a:ext cx="841320" cy="8384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yoming, Cheyen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don’t need to ad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your chi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6"/>
          <p:cNvSpPr/>
          <p:nvPr/>
        </p:nvSpPr>
        <p:spPr>
          <a:xfrm rot="394200">
            <a:off x="2142720" y="2657520"/>
            <a:ext cx="762120" cy="10666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ah, Salt Lake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ado, Den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2590920" y="2971800"/>
            <a:ext cx="106668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zona, Phoen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reeform 6"/>
          <p:cNvSpPr/>
          <p:nvPr/>
        </p:nvSpPr>
        <p:spPr>
          <a:xfrm rot="967200">
            <a:off x="2133360" y="3352320"/>
            <a:ext cx="83808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ing down the chimney with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s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6"/>
          <p:cNvSpPr/>
          <p:nvPr/>
        </p:nvSpPr>
        <p:spPr>
          <a:xfrm rot="967200">
            <a:off x="2666520" y="3352320"/>
            <a:ext cx="83844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Mexico, Santa F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park you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s in the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Freeform 6"/>
          <p:cNvSpPr/>
          <p:nvPr/>
        </p:nvSpPr>
        <p:spPr>
          <a:xfrm rot="967200">
            <a:off x="1599840" y="2666520"/>
            <a:ext cx="83808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7"/>
          <p:cNvSpPr/>
          <p:nvPr/>
        </p:nvSpPr>
        <p:spPr>
          <a:xfrm flipV="1">
            <a:off x="1371600" y="3505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33520" y="3809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hiel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vada, Carson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 carries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of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n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round for his bad brea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Freeform 6"/>
          <p:cNvSpPr/>
          <p:nvPr/>
        </p:nvSpPr>
        <p:spPr>
          <a:xfrm rot="967200">
            <a:off x="1039320" y="2708280"/>
            <a:ext cx="1155960" cy="1359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ifornia, Sacr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ck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i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o the oce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Freeform 6"/>
          <p:cNvSpPr/>
          <p:nvPr/>
        </p:nvSpPr>
        <p:spPr>
          <a:xfrm rot="967200">
            <a:off x="1219320" y="2057400"/>
            <a:ext cx="1143000" cy="8380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egon, Sal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shing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oking his pipe watch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lymp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6"/>
          <p:cNvSpPr/>
          <p:nvPr/>
        </p:nvSpPr>
        <p:spPr>
          <a:xfrm rot="967200">
            <a:off x="1295280" y="1676520"/>
            <a:ext cx="1143000" cy="8380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shington, Olymp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d to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he potatoes to make their favorite chips –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Freeform 6"/>
          <p:cNvSpPr/>
          <p:nvPr/>
        </p:nvSpPr>
        <p:spPr>
          <a:xfrm rot="394200">
            <a:off x="1965240" y="1755720"/>
            <a:ext cx="776520" cy="1219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aho, Bo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his wif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ting the chi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2057400" y="1752480"/>
            <a:ext cx="1447920" cy="9144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tana, Hele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cp:lastPrinted>2014-10-21T11:51:19Z</cp:lastPrinted>
  <dcterms:modified xsi:type="dcterms:W3CDTF">2016-11-01T12:33:13Z</dcterms:modified>
  <cp:revision>21</cp:revision>
  <dc:subject/>
  <dc:title>United States</dc:title>
</cp:coreProperties>
</file>