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2C3D-7EEA-4949-9E5B-345A44E64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714E-7499-4E80-AD45-EBE57394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9B52-D00E-42B3-A04E-D3C307C36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25A9-7543-4F52-B31D-B7660A5A3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557C-34CE-40AD-AF5E-F24AA6EF9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508FA-C314-43B1-8DD3-DCAD4AC2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134C-5784-4475-89B1-7282B1D8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AF2D-BE77-4815-ABAF-10666348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BA8D-21F0-4576-BCDF-518BE48E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33AA-3050-4A9F-83AA-12B455D0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1742-1F35-4E6A-BAD8-A9FA6CCA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8451-AC6C-4F55-9C70-59D99D83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7665-5454-4255-B73C-D48C9A3E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60FF-5BC5-4F6B-8EEB-F396B73D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C890-076C-4F46-A139-55F87EEA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19BC1-6D97-4843-9C68-B99AD621E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811C-2024-4043-81C3-2D5495DA9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8D9C-3401-467E-9E01-86E4AB4C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3A5D-B1EF-42F5-B5D3-AF3D267C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2710-5B1B-4078-A0D1-DB250740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39E0-9E31-4C06-9FF0-7E2BC54B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D450-31BC-416A-9B5B-E7D30664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B8DD-F916-4616-BDA8-BD9A50F4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AEB7-70AE-41BE-B7B3-AB11EDE9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EDC6-9021-4BCA-ABBF-A90C6CDB0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AC85-F810-4E4F-931B-C3B4D5589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United State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ates and Capitals IIII – 11 Wester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e’s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hy Au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wondering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she didn’t get any chips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Freeform 6"/>
          <p:cNvSpPr/>
          <p:nvPr/>
        </p:nvSpPr>
        <p:spPr>
          <a:xfrm rot="394200">
            <a:off x="2589120" y="2357280"/>
            <a:ext cx="841320" cy="83844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yoming, Cheyen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 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don’t need to add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l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your chip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Freeform 6"/>
          <p:cNvSpPr/>
          <p:nvPr/>
        </p:nvSpPr>
        <p:spPr>
          <a:xfrm rot="394200">
            <a:off x="2142720" y="2657520"/>
            <a:ext cx="762120" cy="106668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tah, Salt Lake C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6248520" y="2666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ado, Denv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Freeform 6"/>
          <p:cNvSpPr/>
          <p:nvPr/>
        </p:nvSpPr>
        <p:spPr>
          <a:xfrm>
            <a:off x="2590920" y="2971800"/>
            <a:ext cx="1066680" cy="6858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6248520" y="2666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zona, Phoeni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Freeform 6"/>
          <p:cNvSpPr/>
          <p:nvPr/>
        </p:nvSpPr>
        <p:spPr>
          <a:xfrm rot="967200">
            <a:off x="2133360" y="3352320"/>
            <a:ext cx="838080" cy="11430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n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ing down the chimney with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esen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Freeform 6"/>
          <p:cNvSpPr/>
          <p:nvPr/>
        </p:nvSpPr>
        <p:spPr>
          <a:xfrm rot="967200">
            <a:off x="2666520" y="3352320"/>
            <a:ext cx="838440" cy="11430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w Mexico, Santa F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e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 park your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rs in the C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Freeform 6"/>
          <p:cNvSpPr/>
          <p:nvPr/>
        </p:nvSpPr>
        <p:spPr>
          <a:xfrm rot="967200">
            <a:off x="1599840" y="2666520"/>
            <a:ext cx="838080" cy="11430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Line 7"/>
          <p:cNvSpPr/>
          <p:nvPr/>
        </p:nvSpPr>
        <p:spPr>
          <a:xfrm flipV="1">
            <a:off x="1371600" y="3505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533520" y="38098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shiel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vada, Carson C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ta carries a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of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ent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around for his bad breath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Freeform 6"/>
          <p:cNvSpPr/>
          <p:nvPr/>
        </p:nvSpPr>
        <p:spPr>
          <a:xfrm rot="967200">
            <a:off x="1039320" y="2708280"/>
            <a:ext cx="1155960" cy="13590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lifornia, Sacramen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ck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i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to the oce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Freeform 6"/>
          <p:cNvSpPr/>
          <p:nvPr/>
        </p:nvSpPr>
        <p:spPr>
          <a:xfrm rot="967200">
            <a:off x="1219320" y="2057400"/>
            <a:ext cx="1143000" cy="83808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6248520" y="4267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regon, Sal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ashingt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moking his pipe watching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lymp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Freeform 6"/>
          <p:cNvSpPr/>
          <p:nvPr/>
        </p:nvSpPr>
        <p:spPr>
          <a:xfrm rot="967200">
            <a:off x="1295280" y="1676520"/>
            <a:ext cx="1143000" cy="83808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ashington, Olymp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had to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o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the potatoes to make their favorite chips –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oi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Freeform 6"/>
          <p:cNvSpPr/>
          <p:nvPr/>
        </p:nvSpPr>
        <p:spPr>
          <a:xfrm rot="394200">
            <a:off x="1965240" y="1755720"/>
            <a:ext cx="776520" cy="12193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6248520" y="4267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daho, Boi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e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nta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and his wife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ele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eating the chip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Freeform 6"/>
          <p:cNvSpPr/>
          <p:nvPr/>
        </p:nvSpPr>
        <p:spPr>
          <a:xfrm>
            <a:off x="2057400" y="1752480"/>
            <a:ext cx="1447920" cy="9144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6248520" y="4267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ntana, Hele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3:35:24Z</dcterms:created>
  <dc:creator>Penn Cambria School District</dc:creator>
  <dc:description/>
  <dc:language>en-US</dc:language>
  <cp:lastModifiedBy>John Edgell</cp:lastModifiedBy>
  <cp:lastPrinted>2014-10-21T11:51:19Z</cp:lastPrinted>
  <dcterms:modified xsi:type="dcterms:W3CDTF">2016-11-01T12:33:13Z</dcterms:modified>
  <cp:revision>21</cp:revision>
  <dc:subject/>
  <dc:title>United States</dc:title>
</cp:coreProperties>
</file>