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4D88-DF57-4067-8EE3-BB67E154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BB8B-A939-4253-9504-6158C341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54E-7E5F-407B-9886-20DD7893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6F07-1E9F-4941-BC0E-754FB312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9916-729A-45F0-ADFC-CF609A68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2FA2-CBE8-48E9-A539-AC9A9A77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D308-830A-4E3F-B0D0-7651188E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545D-56F4-42F5-A6EA-0DFE610E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CCD7-BD5C-40D7-A690-7270F8E2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E268-6A36-40B3-8F9A-EFE86FA7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992A-8833-4AF6-B58C-003922FE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9AFA-9357-4E0D-8697-9843459C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98BD-886A-4BC4-9F42-96029F5C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305D-B056-451A-8C46-5C01ACAF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5FDB-B45C-46EB-8E15-2D705CF5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B170-F071-440A-9037-A668C55E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8174-22F6-4ECA-88C6-C61222C2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43E2-C4E8-40CF-8C5B-6430AEBC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4D18-EE2F-4280-B95F-87143332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4C77-7144-4C7F-9824-51F3C245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FE3C-547B-4520-8212-29B577D7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43C6-38D8-483B-9292-B8F505C7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94EE-115D-4C6D-B6EA-0D0BF6C7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30CD-1D31-40C9-84BA-28E7B93C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0559-3187-487E-982F-19BB2339D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CA14-6129-4D3C-9062-BC3403897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ed Stat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tes and Capitals IIII – 11 Wester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e’s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y A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wondering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she didn’t get any chips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Freeform 6"/>
          <p:cNvSpPr/>
          <p:nvPr/>
        </p:nvSpPr>
        <p:spPr>
          <a:xfrm rot="394200">
            <a:off x="2589120" y="2357280"/>
            <a:ext cx="841320" cy="83844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yoming, Cheyen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 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don’t need to ad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your chip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Freeform 6"/>
          <p:cNvSpPr/>
          <p:nvPr/>
        </p:nvSpPr>
        <p:spPr>
          <a:xfrm rot="394200">
            <a:off x="2142720" y="2657520"/>
            <a:ext cx="762120" cy="10666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ah, Salt Lake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62485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ado, Den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Freeform 6"/>
          <p:cNvSpPr/>
          <p:nvPr/>
        </p:nvSpPr>
        <p:spPr>
          <a:xfrm>
            <a:off x="2590920" y="2971800"/>
            <a:ext cx="1066680" cy="6858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2485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zona, Phoen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Freeform 6"/>
          <p:cNvSpPr/>
          <p:nvPr/>
        </p:nvSpPr>
        <p:spPr>
          <a:xfrm rot="967200">
            <a:off x="2133360" y="3352320"/>
            <a:ext cx="838080" cy="11430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n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ing down the chimney with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es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6"/>
          <p:cNvSpPr/>
          <p:nvPr/>
        </p:nvSpPr>
        <p:spPr>
          <a:xfrm rot="967200">
            <a:off x="2666520" y="3352320"/>
            <a:ext cx="838440" cy="11430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 Mexico, Santa F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park your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rs in the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Freeform 6"/>
          <p:cNvSpPr/>
          <p:nvPr/>
        </p:nvSpPr>
        <p:spPr>
          <a:xfrm rot="967200">
            <a:off x="1599840" y="2666520"/>
            <a:ext cx="838080" cy="11430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7"/>
          <p:cNvSpPr/>
          <p:nvPr/>
        </p:nvSpPr>
        <p:spPr>
          <a:xfrm flipV="1">
            <a:off x="1371600" y="3505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33520" y="38098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shiel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vada, Carson C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ta carries a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of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nt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round for his bad breat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Freeform 6"/>
          <p:cNvSpPr/>
          <p:nvPr/>
        </p:nvSpPr>
        <p:spPr>
          <a:xfrm rot="967200">
            <a:off x="1039320" y="2708280"/>
            <a:ext cx="1155960" cy="13590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ifornia, Sacram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6248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ck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i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to the oce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Freeform 6"/>
          <p:cNvSpPr/>
          <p:nvPr/>
        </p:nvSpPr>
        <p:spPr>
          <a:xfrm rot="967200">
            <a:off x="1219320" y="2057400"/>
            <a:ext cx="1143000" cy="8380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egon, Sal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ashing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oking his pipe watching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lymp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eform 6"/>
          <p:cNvSpPr/>
          <p:nvPr/>
        </p:nvSpPr>
        <p:spPr>
          <a:xfrm rot="967200">
            <a:off x="1295280" y="1676520"/>
            <a:ext cx="1143000" cy="83808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6248520" y="4267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shington, Olymp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d to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the potatoes to make their favorite chips –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o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Freeform 6"/>
          <p:cNvSpPr/>
          <p:nvPr/>
        </p:nvSpPr>
        <p:spPr>
          <a:xfrm rot="394200">
            <a:off x="1965240" y="1755720"/>
            <a:ext cx="776520" cy="121932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aho, Boi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blank map2"/>
          <p:cNvPicPr/>
          <p:nvPr/>
        </p:nvPicPr>
        <p:blipFill>
          <a:blip r:embed="rId1"/>
          <a:stretch/>
        </p:blipFill>
        <p:spPr>
          <a:xfrm>
            <a:off x="1295280" y="457200"/>
            <a:ext cx="6532560" cy="60008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6248520" y="26668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e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nta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and his wife 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e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eating the chip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Freeform 6"/>
          <p:cNvSpPr/>
          <p:nvPr/>
        </p:nvSpPr>
        <p:spPr>
          <a:xfrm>
            <a:off x="2057400" y="1752480"/>
            <a:ext cx="1447920" cy="914400"/>
          </a:xfrm>
          <a:custGeom>
            <a:avLst/>
            <a:gdLst/>
            <a:ahLst/>
            <a:rect l="l" t="t" r="r" b="b"/>
            <a:pathLst>
              <a:path w="557" h="438">
                <a:moveTo>
                  <a:pt x="375" y="24"/>
                </a:moveTo>
                <a:cubicBezTo>
                  <a:pt x="326" y="27"/>
                  <a:pt x="277" y="30"/>
                  <a:pt x="228" y="33"/>
                </a:cubicBezTo>
                <a:cubicBezTo>
                  <a:pt x="64" y="42"/>
                  <a:pt x="68" y="0"/>
                  <a:pt x="9" y="88"/>
                </a:cubicBezTo>
                <a:cubicBezTo>
                  <a:pt x="6" y="97"/>
                  <a:pt x="0" y="106"/>
                  <a:pt x="0" y="116"/>
                </a:cubicBezTo>
                <a:cubicBezTo>
                  <a:pt x="0" y="183"/>
                  <a:pt x="1" y="250"/>
                  <a:pt x="9" y="317"/>
                </a:cubicBezTo>
                <a:cubicBezTo>
                  <a:pt x="12" y="342"/>
                  <a:pt x="40" y="350"/>
                  <a:pt x="55" y="362"/>
                </a:cubicBezTo>
                <a:cubicBezTo>
                  <a:pt x="85" y="387"/>
                  <a:pt x="119" y="407"/>
                  <a:pt x="146" y="436"/>
                </a:cubicBezTo>
                <a:cubicBezTo>
                  <a:pt x="280" y="433"/>
                  <a:pt x="414" y="438"/>
                  <a:pt x="548" y="426"/>
                </a:cubicBezTo>
                <a:cubicBezTo>
                  <a:pt x="557" y="425"/>
                  <a:pt x="557" y="408"/>
                  <a:pt x="557" y="399"/>
                </a:cubicBezTo>
                <a:cubicBezTo>
                  <a:pt x="557" y="311"/>
                  <a:pt x="553" y="222"/>
                  <a:pt x="548" y="134"/>
                </a:cubicBezTo>
                <a:cubicBezTo>
                  <a:pt x="546" y="104"/>
                  <a:pt x="409" y="33"/>
                  <a:pt x="375" y="24"/>
                </a:cubicBezTo>
                <a:close/>
              </a:path>
            </a:pathLst>
          </a:custGeom>
          <a:solidFill>
            <a:srgbClr val="33cccc">
              <a:alpha val="4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6248520" y="4267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tana, Hele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3:35:24Z</dcterms:created>
  <dc:creator>Penn Cambria School District</dc:creator>
  <dc:description/>
  <dc:language>en-US</dc:language>
  <cp:lastModifiedBy>John Edgell</cp:lastModifiedBy>
  <cp:lastPrinted>2014-10-21T11:51:19Z</cp:lastPrinted>
  <dcterms:modified xsi:type="dcterms:W3CDTF">2016-11-01T12:33:13Z</dcterms:modified>
  <cp:revision>21</cp:revision>
  <dc:subject/>
  <dc:title>United States</dc:title>
</cp:coreProperties>
</file>